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3C5-D8A3-4B7C-94CB-6BA8693D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DB-2F2E-409E-86F6-9FF67029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A88-3BDA-4CEA-8F34-82D04964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626-2169-4A01-943D-2F6C38B0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6F9-8D5D-48EB-BDE7-B464102B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B5F-1E3C-4A4C-87CD-B3A5B979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5DA-0F38-4330-ABBA-BA154075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47F-1ADF-4CAB-AB1C-43BB28B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445-3095-4F81-8D91-92B383E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354-A98A-4ECC-A877-C5820563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D41-2244-4659-8D68-3D01E7F8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EED-D699-4E93-BC78-06CCF44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0A7-7DA9-4B79-BA37-D7BE5B65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hyperlink" Target="mailto:ns@it-territory.ru" TargetMode="External"/><Relationship Id="rId4" Type="http://schemas.openxmlformats.org/officeDocument/2006/relationships/hyperlink" Target="mailto:promo@it-territory.ru" TargetMode="External"/><Relationship Id="rId5" Type="http://schemas.openxmlformats.org/officeDocument/2006/relationships/hyperlink" Target="http://www.it-territory.ru/" TargetMode="External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12920" y="1579680"/>
            <a:ext cx="681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Реклама в игр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и игры в рекла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0720" y="1557360"/>
            <a:ext cx="681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еклама в игр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 игры в рекла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ompanypic"/>
          <p:cNvPicPr/>
          <p:nvPr/>
        </p:nvPicPr>
        <p:blipFill>
          <a:blip r:embed="rId2"/>
          <a:stretch/>
        </p:blipFill>
        <p:spPr>
          <a:xfrm>
            <a:off x="324000" y="558972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6160" y="5589720"/>
            <a:ext cx="21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2880" y="5877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марта 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268360" y="476280"/>
          <a:ext cx="6551640" cy="720360"/>
        </p:xfrm>
        <a:graphic>
          <a:graphicData uri="http://schemas.openxmlformats.org/drawingml/2006/table">
            <a:tbl>
              <a:tblPr/>
              <a:tblGrid>
                <a:gridCol w="655164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/ Эффективность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00720" y="3068640"/>
            <a:ext cx="439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минаемость в 10 раз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-ро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в игре превышает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а с другими мед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6% игроков возвращают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овые сайты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рие к рекламе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ежеспособная ауд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companypic"/>
          <p:cNvPicPr/>
          <p:nvPr/>
        </p:nvPicPr>
        <p:blipFill>
          <a:blip r:embed="rId2"/>
          <a:stretch/>
        </p:blipFill>
        <p:spPr>
          <a:xfrm>
            <a:off x="6877080" y="404640"/>
            <a:ext cx="1887480" cy="18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411280" y="476280"/>
          <a:ext cx="4248360" cy="103176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я-ИТ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ак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0" y="3213000"/>
            <a:ext cx="43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ита Ше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s@it-territor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лама в иг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mo@it-territor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it-territory.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2050920" y="404640"/>
          <a:ext cx="6697800" cy="72036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4427640" y="3213000"/>
            <a:ext cx="41767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 млн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мпью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2 млн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,5 млн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удитория онлай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-8 часов/сут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иг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268360" y="404640"/>
          <a:ext cx="6407280" cy="647640"/>
        </p:xfrm>
        <a:graphic>
          <a:graphicData uri="http://schemas.openxmlformats.org/drawingml/2006/table">
            <a:tbl>
              <a:tblPr/>
              <a:tblGrid>
                <a:gridCol w="640728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076720" y="3141720"/>
            <a:ext cx="35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OR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O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есты (призов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340000" y="404640"/>
          <a:ext cx="6335640" cy="576000"/>
        </p:xfrm>
        <a:graphic>
          <a:graphicData uri="http://schemas.openxmlformats.org/drawingml/2006/table">
            <a:tbl>
              <a:tblPr/>
              <a:tblGrid>
                <a:gridCol w="633564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УДИТОРИЯ / Возраст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500720" y="3284640"/>
            <a:ext cx="43192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т 21 до 2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 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т 18 до 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т 25 до 3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т 15 до 1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5 лет и стар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340000" y="476280"/>
          <a:ext cx="6408720" cy="64872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64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УДИТОРИЯ / Пол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5796000" y="16286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40000" y="3068640"/>
          <a:ext cx="6408720" cy="64728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УДИТОРИЯ / Географ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716360" y="407664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Укра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,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,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340000" y="404640"/>
          <a:ext cx="6480000" cy="64764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/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 placement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211640" y="3068640"/>
            <a:ext cx="453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ртуальные оф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ужная 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и и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ламные персон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ональ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268360" y="404640"/>
          <a:ext cx="6480360" cy="64764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/ Акци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635280" y="2924280"/>
            <a:ext cx="5256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дитор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егко управля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бще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закон тол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овые бону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имулир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268360" y="476280"/>
          <a:ext cx="6480360" cy="103176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/ Призовые игры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АС ПИК»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643280" y="3429000"/>
            <a:ext cx="417672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5 тыс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главных пр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ополнительных при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5 000 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смотр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340000" y="404640"/>
          <a:ext cx="6408720" cy="72036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/ Преимущ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419640" y="2924280"/>
            <a:ext cx="55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ысокие ц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нстрация в действ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убокое внед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новационный рекламный 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онный п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7:38:25Z</dcterms:created>
  <dc:creator>Игорь Мацанюк</dc:creator>
  <dc:description/>
  <dc:language>en-US</dc:language>
  <cp:lastModifiedBy>Игорь Мацанюк</cp:lastModifiedBy>
  <dcterms:modified xsi:type="dcterms:W3CDTF">2006-03-16T09:16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8890086</vt:r8>
  </property>
  <property fmtid="{D5CDD505-2E9C-101B-9397-08002B2CF9AE}" pid="3" name="_AuthorEmail">
    <vt:lpwstr>ns@it-territory.ru</vt:lpwstr>
  </property>
  <property fmtid="{D5CDD505-2E9C-101B-9397-08002B2CF9AE}" pid="4" name="_AuthorEmailDisplayName">
    <vt:lpwstr>Nikita Sherman</vt:lpwstr>
  </property>
  <property fmtid="{D5CDD505-2E9C-101B-9397-08002B2CF9AE}" pid="5" name="_EmailSubject">
    <vt:lpwstr>презентаха</vt:lpwstr>
  </property>
</Properties>
</file>