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EFE-5D53-4A69-B8C2-39A9589D9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, чем выбрать формат рекламной кампании, ее длительность и сформировать конкретный бюджет, требуется определиться с приоритетными задач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ом этапе взаимоотношений с целевой аудиторией вы находитесь сейчас и на сколько ступенек вверх вы хотите переместиться. Какова степень конкурентного шума, который надо «предодолеть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, чем выбрать формат рекламной кампании, ее длительность и сформировать конкретный бюджет, требуется определиться с приоритетными задач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ом этапе взаимоотношений с целевой аудиторией вы находитесь сейчас и на сколько ступенек вверх вы хотите переместиться. Какова степень конкурентного шума, который надо «предодолеть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60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1516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944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1516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944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60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-9036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90360" y="2197080"/>
            <a:ext cx="792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90360" y="2197080"/>
            <a:ext cx="9326520" cy="2465280"/>
            <a:chOff x="-90360" y="2197080"/>
            <a:chExt cx="9326520" cy="2465280"/>
          </a:xfrm>
        </p:grpSpPr>
        <p:sp>
          <p:nvSpPr>
            <p:cNvPr id="8" name=""/>
            <p:cNvSpPr/>
            <p:nvPr/>
          </p:nvSpPr>
          <p:spPr>
            <a:xfrm>
              <a:off x="9053640" y="4236840"/>
              <a:ext cx="1825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-90360" y="4236840"/>
              <a:ext cx="91440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-90360" y="2197080"/>
              <a:ext cx="9326520" cy="20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ru-RU" sz="6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 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-90360" y="2197080"/>
              <a:ext cx="9326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90360" y="4662360"/>
              <a:ext cx="9326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90360" y="2197080"/>
              <a:ext cx="0" cy="246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36160" y="2197080"/>
              <a:ext cx="0" cy="246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5667480" y="6585120"/>
            <a:ext cx="336852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242064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Старое доброе и лучшее новое в программах ко-регистраци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4941720"/>
            <a:ext cx="27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ирилл Чис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нтернет-Проек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vents@subscribe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336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«Управление аудиторией в Интернете…».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7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рта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3860640"/>
            <a:ext cx="10918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Расчет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1. Пессимистичный сценарий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981080"/>
          <a:ext cx="8381880" cy="4114080"/>
        </p:xfrm>
        <a:graphic>
          <a:graphicData uri="http://schemas.openxmlformats.org/drawingml/2006/table">
            <a:tbl>
              <a:tblPr/>
              <a:tblGrid>
                <a:gridCol w="1761120"/>
                <a:gridCol w="1157400"/>
                <a:gridCol w="736200"/>
                <a:gridCol w="672840"/>
                <a:gridCol w="1261080"/>
                <a:gridCol w="1010520"/>
                <a:gridCol w="914760"/>
                <a:gridCol w="867960"/>
              </a:tblGrid>
              <a:tr h="11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разме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R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версия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и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43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 040,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 18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2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2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 409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 2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2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Расчет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2. Оптимистичный сценарий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1981080"/>
          <a:ext cx="8381880" cy="4114080"/>
        </p:xfrm>
        <a:graphic>
          <a:graphicData uri="http://schemas.openxmlformats.org/drawingml/2006/table">
            <a:tbl>
              <a:tblPr/>
              <a:tblGrid>
                <a:gridCol w="1712520"/>
                <a:gridCol w="982800"/>
                <a:gridCol w="808200"/>
                <a:gridCol w="704880"/>
                <a:gridCol w="1226520"/>
                <a:gridCol w="1074600"/>
                <a:gridCol w="889920"/>
                <a:gridCol w="982440"/>
              </a:tblGrid>
              <a:tr h="11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разме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R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версия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и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95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93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12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 33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13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272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 80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 723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Расчет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3. </a:t>
            </a: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Break-even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 сценарий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981080"/>
          <a:ext cx="8381880" cy="4114080"/>
        </p:xfrm>
        <a:graphic>
          <a:graphicData uri="http://schemas.openxmlformats.org/drawingml/2006/table">
            <a:tbl>
              <a:tblPr/>
              <a:tblGrid>
                <a:gridCol w="1731600"/>
                <a:gridCol w="993600"/>
                <a:gridCol w="817200"/>
                <a:gridCol w="712800"/>
                <a:gridCol w="1240200"/>
                <a:gridCol w="993240"/>
                <a:gridCol w="899640"/>
                <a:gridCol w="993600"/>
              </a:tblGrid>
              <a:tr h="11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разме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R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версия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и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36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 6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6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93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 771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08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12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 33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13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462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 04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 46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повод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ветственного специали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интересных новостей, нет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стандартные товары/услуги, прайс-лист, пресс-релиз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 не всег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опыта, нет понимания механики, нет технологи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формление акции и навиг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тистика и контроль покупо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нализ конверсии (особенно на длительном отрезке времени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бота с анкетными данными («чистка», сегментация, «выращивание перспективных покупателей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доверия к партнеру / посредника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м. ниж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розрачность статистики с одной из сторон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 качество анкетных данных (соответствие аудитории цел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низкого отклика и низкой конвер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довольство результатами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латят слишком мало (а вдруг есть предложения получш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латим слишком много (а вдруг есть предложения получш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Black"/>
              </a:rPr>
              <a:t>Типичные проблемы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70028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 рубежом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pica.co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olsavings.co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icegrabber.co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alueClick.com (OnResponse.com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России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.Subscribe.ru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k.Content.Mail.ru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loboClicks.ru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spero.ru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rketMix.ru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Mnogo.ru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rta.ru, Allshops.ru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и другие операторы партнерских программ -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талоги компаний, ценовые и торговые площадки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обратная связь через форму, созданную посредником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Black"/>
              </a:rPr>
              <a:t>Некоторые примеры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34128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35280" y="4653000"/>
            <a:ext cx="6121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илл Чис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ents@subscribe.ru?subject=eTarge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989000"/>
            <a:ext cx="835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Вопросы, пожалуйста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егодня: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43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вместная регистрация как способ формирования собственной базы лояльных потребителей и повышения конверта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ры программ ко-регистрации в зарубежной и российской практике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нимость и факторы эффективности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8080" y="18864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00"/>
                </a:solidFill>
                <a:latin typeface="Arial Black"/>
              </a:rPr>
              <a:t>Совместная регистрация. Что это?</a:t>
            </a:r>
            <a:endParaRPr b="0" lang="en-US" sz="34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557360"/>
            <a:ext cx="88567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вместная регистрация 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-registration, lead generatio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 формы регистрации / подписки на другом с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формирования базы потенциальных покупателей (партнер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ый, но мало-распространенный (в России)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лата «за результат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чик рассы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 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ка / зака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для участия в конкурс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Подписной» механиз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 информации в явн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оощрения факта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е указание автора / участников акции, собирающих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0360" y="2924280"/>
            <a:ext cx="2936880" cy="289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80320" y="4338720"/>
            <a:ext cx="1076400" cy="39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верс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3716280"/>
            <a:ext cx="1009800" cy="215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бор дан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4292640"/>
            <a:ext cx="1009800" cy="33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 запрос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1640" y="4276800"/>
            <a:ext cx="1152360" cy="33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аргетированные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4720" y="4853160"/>
            <a:ext cx="1295280" cy="33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бор статисти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 отчетнос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724280"/>
            <a:ext cx="792360" cy="33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нализ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вер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8080" y="18864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00"/>
                </a:solidFill>
                <a:latin typeface="Arial Black"/>
              </a:rPr>
              <a:t>Как это работает?</a:t>
            </a:r>
            <a:endParaRPr b="0" lang="en-US" sz="34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8000" y="2265480"/>
            <a:ext cx="2160360" cy="170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5375160" cy="1546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960" y="3933720"/>
            <a:ext cx="281736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азмещение анкеты 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пулярных и / ил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ематических ресур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орталы и катало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правочники и баз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Тематические ресур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айты бизнес-партне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45200" y="3933720"/>
            <a:ext cx="2317320" cy="18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им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полнения анке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обещ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nline-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Отчет / стать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упон на скид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Опрос / розыгры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89200" y="3930480"/>
            <a:ext cx="233100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бор и обработк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кетных данных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стат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ФИ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1800" y="3933720"/>
            <a:ext cx="234648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абота с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регистрирова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подписч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ивет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Акции и нов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онтакт по телефон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Доп. анкетиро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276640"/>
            <a:ext cx="1584360" cy="20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Arial"/>
              </a:rPr>
              <a:t>Анкет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2276640"/>
            <a:ext cx="1871640" cy="20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Arial"/>
              </a:rPr>
              <a:t>Подписка на информацию (рассылку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3640" y="2276640"/>
            <a:ext cx="1441440" cy="20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Arial"/>
              </a:rPr>
              <a:t>База данных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 presetSubtype="1867718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95732" presetSubtype="186772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920" y="270000"/>
            <a:ext cx="9036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 Black"/>
              </a:rPr>
              <a:t>Размещение анк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700280"/>
            <a:ext cx="85690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нешние ссылки на анкету, размещенную на своем сайт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артнерство с избранными сайтами (инфо блок + ссылка с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лата чаще за клик, чем за регистрацию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вполне прозрачная схем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юсы и минус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+ больший охват, осведомленность, дополнительный траффик на сай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+ более высокое качество анкет (сначало знакомство, затем – регистрац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 более высокая стоимость анкеты (зависит от % регистраций – см. дале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 техническая нагрузка при обработке анкет и работе с аудитор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нкета на партнерских сайтах, оплата за качественную анкет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мещение анкеты под обещание приза / бонусов / заработ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мещение рассылки на сервисе рассылок (спец. договор – см. примеры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мещение собственных рег. форм на популярных сайта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920" y="270000"/>
            <a:ext cx="9036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 Black"/>
              </a:rPr>
              <a:t>Примеры анк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2098800" cy="24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97520" y="1773360"/>
            <a:ext cx="2664000" cy="2427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121520" y="2060640"/>
            <a:ext cx="1627200" cy="197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1773360"/>
            <a:ext cx="24066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484280"/>
            <a:ext cx="89647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Opt-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подтверждение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-in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действие для занесения в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-out</a:t>
            </a:r>
            <a:r>
              <a:rPr b="0" lang="en-US" sz="2400" spc="-1" strike="noStrike">
                <a:solidFill>
                  <a:srgbClr val="970318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действ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уда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480" y="188640"/>
            <a:ext cx="90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00"/>
                </a:solidFill>
                <a:latin typeface="Arial Black"/>
              </a:rPr>
              <a:t>Варианты технологии подписки</a:t>
            </a:r>
            <a:endParaRPr b="0" lang="en-US" sz="34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51280" y="4581360"/>
            <a:ext cx="1841400" cy="90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1869840" cy="91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59640" y="4581360"/>
            <a:ext cx="187164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4360" y="1341360"/>
            <a:ext cx="1979640" cy="147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051680" y="3141720"/>
            <a:ext cx="1841400" cy="904680"/>
          </a:xfrm>
          <a:prstGeom prst="rect">
            <a:avLst/>
          </a:prstGeom>
          <a:ln w="0">
            <a:noFill/>
          </a:ln>
        </p:spPr>
      </p:pic>
      <p:cxnSp>
        <p:nvCxnSpPr>
          <p:cNvPr id="98" name=""/>
          <p:cNvCxnSpPr>
            <a:stCxn id="94" idx="3"/>
            <a:endCxn id="97" idx="1"/>
          </p:cNvCxnSpPr>
          <p:nvPr/>
        </p:nvCxnSpPr>
        <p:spPr>
          <a:xfrm flipV="1">
            <a:off x="6297120" y="3593520"/>
            <a:ext cx="7549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endCxn id="94" idx="1"/>
          </p:cNvCxnSpPr>
          <p:nvPr/>
        </p:nvCxnSpPr>
        <p:spPr>
          <a:xfrm flipV="1">
            <a:off x="3347640" y="3600000"/>
            <a:ext cx="1080360" cy="378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2771280" y="5084280"/>
            <a:ext cx="108036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3"/>
            <a:endCxn id="95" idx="1"/>
          </p:cNvCxnSpPr>
          <p:nvPr/>
        </p:nvCxnSpPr>
        <p:spPr>
          <a:xfrm>
            <a:off x="5692680" y="5033880"/>
            <a:ext cx="96768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700360" y="1628640"/>
            <a:ext cx="1870200" cy="91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889520" y="1628640"/>
            <a:ext cx="1841400" cy="90504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>
            <a:stCxn id="102" idx="3"/>
            <a:endCxn id="103" idx="1"/>
          </p:cNvCxnSpPr>
          <p:nvPr/>
        </p:nvCxnSpPr>
        <p:spPr>
          <a:xfrm flipV="1">
            <a:off x="4570560" y="2080800"/>
            <a:ext cx="31968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3"/>
            <a:endCxn id="96" idx="1"/>
          </p:cNvCxnSpPr>
          <p:nvPr/>
        </p:nvCxnSpPr>
        <p:spPr>
          <a:xfrm flipV="1">
            <a:off x="6730920" y="2077200"/>
            <a:ext cx="43416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01616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920" y="270000"/>
            <a:ext cx="8858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00"/>
                </a:solidFill>
                <a:latin typeface="Arial Black"/>
              </a:rPr>
              <a:t>Стратегия профилир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71640" y="3176640"/>
            <a:ext cx="1779480" cy="2989080"/>
          </a:xfrm>
          <a:custGeom>
            <a:avLst/>
            <a:gdLst>
              <a:gd name="textAreaLeft" fmla="*/ 46800 w 1779480"/>
              <a:gd name="textAreaRight" fmla="*/ 1732680 w 1779480"/>
              <a:gd name="textAreaTop" fmla="*/ 46800 h 2989080"/>
              <a:gd name="textAreaBottom" fmla="*/ 2942280 h 2989080"/>
            </a:gdLst>
            <a:ahLst/>
            <a:rect l="textAreaLeft" t="textAreaTop" r="textAreaRight" b="textAreaBottom"/>
            <a:pathLst>
              <a:path w="21600" h="36280">
                <a:moveTo>
                  <a:pt x="1944" y="0"/>
                </a:moveTo>
                <a:arcTo wR="1944" hR="1944" stAng="16200000" swAng="-5400000"/>
                <a:lnTo>
                  <a:pt x="0" y="34336"/>
                </a:lnTo>
                <a:arcTo wR="1944" hR="1944" stAng="10800000" swAng="-5400000"/>
                <a:lnTo>
                  <a:pt x="19656" y="36280"/>
                </a:lnTo>
                <a:arcTo wR="1944" hR="1944" stAng="5400000" swAng="-5400000"/>
                <a:lnTo>
                  <a:pt x="21600" y="1944"/>
                </a:lnTo>
                <a:arcTo wR="1944" hR="194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3160" y="2689200"/>
            <a:ext cx="1779480" cy="3443400"/>
          </a:xfrm>
          <a:custGeom>
            <a:avLst/>
            <a:gdLst>
              <a:gd name="textAreaLeft" fmla="*/ 46800 w 1779480"/>
              <a:gd name="textAreaRight" fmla="*/ 1732680 w 1779480"/>
              <a:gd name="textAreaTop" fmla="*/ 46800 h 3443400"/>
              <a:gd name="textAreaBottom" fmla="*/ 3396600 h 3443400"/>
            </a:gdLst>
            <a:ahLst/>
            <a:rect l="textAreaLeft" t="textAreaTop" r="textAreaRight" b="textAreaBottom"/>
            <a:pathLst>
              <a:path w="21600" h="41793">
                <a:moveTo>
                  <a:pt x="1944" y="0"/>
                </a:moveTo>
                <a:arcTo wR="1944" hR="1944" stAng="16200000" swAng="-5400000"/>
                <a:lnTo>
                  <a:pt x="0" y="39849"/>
                </a:lnTo>
                <a:arcTo wR="1944" hR="1944" stAng="10800000" swAng="-5400000"/>
                <a:lnTo>
                  <a:pt x="19656" y="41793"/>
                </a:lnTo>
                <a:arcTo wR="1944" hR="1944" stAng="5400000" swAng="-5400000"/>
                <a:lnTo>
                  <a:pt x="21600" y="1944"/>
                </a:lnTo>
                <a:arcTo wR="1944" hR="194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9640" y="2131920"/>
            <a:ext cx="1781280" cy="3962520"/>
          </a:xfrm>
          <a:custGeom>
            <a:avLst/>
            <a:gdLst>
              <a:gd name="textAreaLeft" fmla="*/ 46800 w 1781280"/>
              <a:gd name="textAreaRight" fmla="*/ 1734480 w 1781280"/>
              <a:gd name="textAreaTop" fmla="*/ 46800 h 3962520"/>
              <a:gd name="textAreaBottom" fmla="*/ 3915720 h 3962520"/>
            </a:gdLst>
            <a:ahLst/>
            <a:rect l="textAreaLeft" t="textAreaTop" r="textAreaRight" b="textAreaBottom"/>
            <a:pathLst>
              <a:path w="21600" h="48045">
                <a:moveTo>
                  <a:pt x="1944" y="0"/>
                </a:moveTo>
                <a:arcTo wR="1944" hR="1944" stAng="16200000" swAng="-5400000"/>
                <a:lnTo>
                  <a:pt x="0" y="46101"/>
                </a:lnTo>
                <a:arcTo wR="1944" hR="1944" stAng="10800000" swAng="-5400000"/>
                <a:lnTo>
                  <a:pt x="19656" y="48045"/>
                </a:lnTo>
                <a:arcTo wR="1944" hR="1944" stAng="5400000" swAng="-5400000"/>
                <a:lnTo>
                  <a:pt x="21600" y="1944"/>
                </a:lnTo>
                <a:arcTo wR="1944" hR="194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96120" y="1574640"/>
            <a:ext cx="1781280" cy="4481640"/>
          </a:xfrm>
          <a:custGeom>
            <a:avLst/>
            <a:gdLst>
              <a:gd name="textAreaLeft" fmla="*/ 46800 w 1781280"/>
              <a:gd name="textAreaRight" fmla="*/ 1734480 w 1781280"/>
              <a:gd name="textAreaTop" fmla="*/ 46800 h 4481640"/>
              <a:gd name="textAreaBottom" fmla="*/ 4434840 h 4481640"/>
            </a:gdLst>
            <a:ahLst/>
            <a:rect l="textAreaLeft" t="textAreaTop" r="textAreaRight" b="textAreaBottom"/>
            <a:pathLst>
              <a:path w="21600" h="54338">
                <a:moveTo>
                  <a:pt x="1944" y="0"/>
                </a:moveTo>
                <a:arcTo wR="1944" hR="1944" stAng="16200000" swAng="-5400000"/>
                <a:lnTo>
                  <a:pt x="0" y="52394"/>
                </a:lnTo>
                <a:arcTo wR="1944" hR="1944" stAng="10800000" swAng="-5400000"/>
                <a:lnTo>
                  <a:pt x="19656" y="54338"/>
                </a:lnTo>
                <a:arcTo wR="1944" hR="1944" stAng="5400000" swAng="-5400000"/>
                <a:lnTo>
                  <a:pt x="21600" y="1944"/>
                </a:lnTo>
                <a:arcTo wR="1944" hR="194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60" y="3735360"/>
            <a:ext cx="1781280" cy="2467080"/>
          </a:xfrm>
          <a:custGeom>
            <a:avLst/>
            <a:gdLst>
              <a:gd name="textAreaLeft" fmla="*/ 46800 w 1781280"/>
              <a:gd name="textAreaRight" fmla="*/ 1734480 w 1781280"/>
              <a:gd name="textAreaTop" fmla="*/ 46800 h 2467080"/>
              <a:gd name="textAreaBottom" fmla="*/ 2420280 h 2467080"/>
            </a:gdLst>
            <a:ahLst/>
            <a:rect l="textAreaLeft" t="textAreaTop" r="textAreaRight" b="textAreaBottom"/>
            <a:pathLst>
              <a:path w="21600" h="29914">
                <a:moveTo>
                  <a:pt x="1944" y="0"/>
                </a:moveTo>
                <a:arcTo wR="1944" hR="1944" stAng="16200000" swAng="-5400000"/>
                <a:lnTo>
                  <a:pt x="0" y="27970"/>
                </a:lnTo>
                <a:arcTo wR="1944" hR="1944" stAng="10800000" swAng="-5400000"/>
                <a:lnTo>
                  <a:pt x="19656" y="29914"/>
                </a:lnTo>
                <a:arcTo wR="1944" hR="1944" stAng="5400000" swAng="-5400000"/>
                <a:lnTo>
                  <a:pt x="21600" y="1944"/>
                </a:lnTo>
                <a:arcTo wR="1944" hR="194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6560" y="4809960"/>
            <a:ext cx="1927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КОНТЕКС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ОФИЛЬ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86040" y="4348080"/>
            <a:ext cx="210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ПОДПИСК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ОЯННЫЙ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ОФИЛЬ С ДАННЫМИ ОБ ИНТЕРЕСАХ И ПРЕДПОЧТЕН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2240" y="3790800"/>
            <a:ext cx="173664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RM)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ОФИЛЬ С ДАННЫМИ ОБ ОТКЛИКАХ (ЗАКАЗАХ) И/ИЛИ СТАТУСЕ ПРИНЯТИЯ РЕШЕНИЯ О ПОКУПК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92880" y="3246480"/>
            <a:ext cx="173520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RM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ФИЛЬ С ИНТЕЛЛЕКТОМ: ГЕНЕРАЦИЯ ПРЕДЛОЖЕНИЙ «НА ЛЕТУ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08" idx="0"/>
          </p:cNvCxnSpPr>
          <p:nvPr/>
        </p:nvCxnSpPr>
        <p:spPr>
          <a:xfrm flipH="1" flipV="1" rot="5400000">
            <a:off x="3392280" y="2063160"/>
            <a:ext cx="556200" cy="1807200"/>
          </a:xfrm>
          <a:prstGeom prst="bentConnector3">
            <a:avLst>
              <a:gd name="adj1" fmla="val 141126"/>
            </a:avLst>
          </a:prstGeom>
          <a:ln cap="rnd" w="19080">
            <a:solidFill>
              <a:srgbClr val="ccccff"/>
            </a:solidFill>
            <a:custDash>
              <a:ds d="100000" sp="1000"/>
            </a:custDash>
            <a:miter/>
          </a:ln>
        </p:spPr>
      </p:cxnSp>
      <p:cxnSp>
        <p:nvCxnSpPr>
          <p:cNvPr id="118" name=""/>
          <p:cNvCxnSpPr>
            <a:stCxn id="111" idx="0"/>
            <a:endCxn id="107" idx="0"/>
          </p:cNvCxnSpPr>
          <p:nvPr/>
        </p:nvCxnSpPr>
        <p:spPr>
          <a:xfrm flipH="1" flipV="1" rot="5400000">
            <a:off x="1578600" y="2551680"/>
            <a:ext cx="559080" cy="1809000"/>
          </a:xfrm>
          <a:prstGeom prst="bentConnector3">
            <a:avLst>
              <a:gd name="adj1" fmla="val 140979"/>
            </a:avLst>
          </a:prstGeom>
          <a:ln cap="rnd" w="19080">
            <a:solidFill>
              <a:srgbClr val="ccccff"/>
            </a:solidFill>
            <a:custDash>
              <a:ds d="100000" sp="1000"/>
            </a:custDash>
            <a:miter/>
          </a:ln>
        </p:spPr>
      </p:cxnSp>
      <p:cxnSp>
        <p:nvCxnSpPr>
          <p:cNvPr id="119" name=""/>
          <p:cNvCxnSpPr>
            <a:stCxn id="108" idx="0"/>
            <a:endCxn id="109" idx="0"/>
          </p:cNvCxnSpPr>
          <p:nvPr/>
        </p:nvCxnSpPr>
        <p:spPr>
          <a:xfrm flipH="1" flipV="1" rot="5400000">
            <a:off x="5197680" y="1506600"/>
            <a:ext cx="558000" cy="1807560"/>
          </a:xfrm>
          <a:prstGeom prst="bentConnector3">
            <a:avLst>
              <a:gd name="adj1" fmla="val 140994"/>
            </a:avLst>
          </a:prstGeom>
          <a:ln cap="rnd" w="19080">
            <a:solidFill>
              <a:srgbClr val="ccccff"/>
            </a:solidFill>
            <a:custDash>
              <a:ds d="100000" sp="1000"/>
            </a:custDash>
            <a:miter/>
          </a:ln>
        </p:spPr>
      </p:cxnSp>
      <p:sp>
        <p:nvSpPr>
          <p:cNvPr id="120" name=""/>
          <p:cNvSpPr/>
          <p:nvPr/>
        </p:nvSpPr>
        <p:spPr>
          <a:xfrm>
            <a:off x="81000" y="5376960"/>
            <a:ext cx="1604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14200" indent="-21420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НОН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60920" y="1530360"/>
            <a:ext cx="1603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14200" indent="-214200" algn="ctr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2000" y="3817800"/>
            <a:ext cx="1603440" cy="1538280"/>
            <a:chOff x="162000" y="3817800"/>
            <a:chExt cx="1603440" cy="15382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175320" y="3817800"/>
              <a:ext cx="156924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62000" y="3830760"/>
              <a:ext cx="1603440" cy="1520280"/>
            </a:xfrm>
            <a:prstGeom prst="rect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963800" y="3259080"/>
            <a:ext cx="1604880" cy="1540080"/>
            <a:chOff x="1963800" y="3259080"/>
            <a:chExt cx="1604880" cy="15400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981440" y="3259080"/>
              <a:ext cx="157068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63800" y="3259080"/>
              <a:ext cx="1604880" cy="1522440"/>
            </a:xfrm>
            <a:prstGeom prst="rect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772080" y="2771640"/>
            <a:ext cx="1603080" cy="1559160"/>
            <a:chOff x="3772080" y="2771640"/>
            <a:chExt cx="1603080" cy="1559160"/>
          </a:xfrm>
        </p:grpSpPr>
        <p:graphicFrame>
          <p:nvGraphicFramePr>
            <p:cNvPr id="128" name=""/>
            <p:cNvGraphicFramePr/>
            <p:nvPr/>
          </p:nvGraphicFramePr>
          <p:xfrm>
            <a:off x="3772080" y="2771640"/>
            <a:ext cx="1589400" cy="155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72080" y="2771640"/>
                      <a:ext cx="1589400" cy="15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772080" y="2780280"/>
              <a:ext cx="1603080" cy="1521000"/>
            </a:xfrm>
            <a:prstGeom prst="rect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87920" y="2214720"/>
            <a:ext cx="1606680" cy="1554120"/>
            <a:chOff x="5587920" y="2214720"/>
            <a:chExt cx="1606680" cy="1554120"/>
          </a:xfrm>
        </p:grpSpPr>
        <p:pic>
          <p:nvPicPr>
            <p:cNvPr id="132" name="" descr=""/>
            <p:cNvPicPr/>
            <p:nvPr/>
          </p:nvPicPr>
          <p:blipFill>
            <a:blip r:embed="rId5"/>
            <a:srcRect l="0" t="0" r="0" b="1235"/>
            <a:stretch/>
          </p:blipFill>
          <p:spPr>
            <a:xfrm>
              <a:off x="5587920" y="2214720"/>
              <a:ext cx="16066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590800" y="2214720"/>
              <a:ext cx="1603440" cy="1520640"/>
            </a:xfrm>
            <a:prstGeom prst="rect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77120" y="1655640"/>
            <a:ext cx="1623960" cy="1535040"/>
            <a:chOff x="7377120" y="1655640"/>
            <a:chExt cx="1623960" cy="153504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rcRect l="0" t="0" r="0" b="3121"/>
            <a:stretch/>
          </p:blipFill>
          <p:spPr>
            <a:xfrm>
              <a:off x="7387200" y="1655640"/>
              <a:ext cx="161388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377120" y="1668240"/>
              <a:ext cx="1603080" cy="1522440"/>
            </a:xfrm>
            <a:prstGeom prst="rect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5400000">
            <a:off x="5342400" y="1875600"/>
            <a:ext cx="182520" cy="11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539880" y="2432160"/>
            <a:ext cx="18252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719720" y="2907360"/>
            <a:ext cx="182520" cy="11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09" idx="0"/>
            <a:endCxn id="110" idx="0"/>
          </p:cNvCxnSpPr>
          <p:nvPr/>
        </p:nvCxnSpPr>
        <p:spPr>
          <a:xfrm flipH="1" flipV="1" rot="5400000">
            <a:off x="7004520" y="949680"/>
            <a:ext cx="558000" cy="1807200"/>
          </a:xfrm>
          <a:prstGeom prst="bentConnector3">
            <a:avLst>
              <a:gd name="adj1" fmla="val 140994"/>
            </a:avLst>
          </a:prstGeom>
          <a:ln cap="rnd" w="19080">
            <a:solidFill>
              <a:srgbClr val="ccccff"/>
            </a:solidFill>
            <a:custDash>
              <a:ds d="100000" sp="1000"/>
            </a:custDash>
            <a:miter/>
          </a:ln>
        </p:spPr>
      </p:cxnSp>
      <p:sp>
        <p:nvSpPr>
          <p:cNvPr id="141" name=""/>
          <p:cNvSpPr/>
          <p:nvPr/>
        </p:nvSpPr>
        <p:spPr>
          <a:xfrm rot="5400000">
            <a:off x="7109280" y="1308960"/>
            <a:ext cx="182520" cy="11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Верная цель </a:t>
            </a:r>
            <a:r>
              <a:rPr b="0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рост конверсии посетитель / покупатель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510000" cy="3560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53640" y="162864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гист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33680" y="3124080"/>
            <a:ext cx="270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ветственно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сооб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495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-таргет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7000" y="5680080"/>
            <a:ext cx="238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п. информац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анализ откл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4640" y="449568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нверс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покупк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шаг к покупк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0280" y="2205000"/>
            <a:ext cx="2043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звит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ношен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повтор. покупк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ще один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шаг к покупк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62640" y="191628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Доп. анкетиро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8:07:05Z</dcterms:created>
  <dc:creator>Кирилл Чистов</dc:creator>
  <dc:description/>
  <cp:keywords>e-mail marketing retention loyalty acquisition drive sales</cp:keywords>
  <dc:language>en-US</dc:language>
  <cp:lastModifiedBy>Kirill Chistov</cp:lastModifiedBy>
  <dcterms:modified xsi:type="dcterms:W3CDTF">2006-03-17T08:06:26Z</dcterms:modified>
  <cp:revision>226</cp:revision>
  <dc:subject>Информационные каналы в борьбе за клиентуру</dc:subject>
  <dc:title>InfoChannels and Customer Retention</dc:title>
</cp:coreProperties>
</file>