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C25-55AB-40CD-8DB6-FD34F328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44F-62F8-4415-8CEC-213E8A6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2E1-BC8F-4501-9737-44372617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E98-330F-4912-A23F-F9CB5EFB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3E6-805B-4EBF-983B-4A79F348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D93-A31B-4926-A25C-8EE5A629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6D5-0AB4-4631-B7C7-23449071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7D5-5116-422B-BBAC-FD72EC82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AEC-F277-4B25-86F3-EFC614C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E2E-2FBD-49B1-B4BD-B12E07A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E4E-4656-4A24-A1D5-4026AAE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0BB-FF91-41C7-B5B2-5B3747EC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672-C872-481E-8DAD-CFB9B372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5813280"/>
            <a:ext cx="9144000" cy="104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351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тандартные методы рекламы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ход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технологии, возможности,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4911840"/>
            <a:ext cx="58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й Падал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по продажам проектов 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6040" y="192672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также и творческое пространство, которое возможно для нестандартных методов рекламы. Нестандартные размещения предоставляют более широкие возможности для брендинга в силу того, что степень свободы выбора дизайнерских решений гораздо выше, чем при регламентированном стандартном размещ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нестандартных рекламных акций возможет также сбор дополнительной информации о пользователе, изучение его потребительских предпочтений и продолжение коммуникации даже после завершения рекламной акции. Самый простой метод – это анкетирование пользоватлей, которые так или иначе участвуют в 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92672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дготовку и реализацию нестандартного размещения требуется определенное , иногда весьма значительное время. При этом понятно, что чем серьезнее и интереснее делается акция, тем больше времени требуется на подготов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затраты на продакшн. В случае с конкурсами – затраты не доставку (то есть на логистику) приз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озрачность цено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6040" y="192672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разовость каждой конкретной акции, со временем эффект новизны пропадает. Конечно, можно повторить особенно успешные действия, но результат будет более бед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сделать точный прогноз эффекти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основной недостаток нестандартного размещения перед традиционной медийной рекламой – это длительность подготовки и требования к тщательной проработке всех деталей процесса от начала до самого конца. При этом до запуска по крайней мере сложно просчитать эффект, который компания получит от рекла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можные форм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сорство (разделов, сайтов, событ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конкур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обытийных спецпрое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рубрик или полноценных прое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ение новостных л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рекламных элементов в интерфейс сай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28432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 заголовков деловой газеты «Взгляд» www.vz.ru на главной странице Mail.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43280" y="1020600"/>
            <a:ext cx="6327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29876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тнерский прое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Леди@mail.ru - партнерство с журналом Woman Journal. На Mail.ru создан полноценный раздел,, выполненный в дизайне Mail.ru, однако часть заголовков раздела ведут не на статьи, находящиеся на Mail.ru, а на сайт партнера, продвижение которого и является целью данной акции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6156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492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я KODAK, выступала спонсором Фото@mail.ru. Логотип KODAK был размещен в шапке и футере проекта, фирменные цвета Mail.ru были изменены на фирменные цвета KODAK. Охват за время акции составил 2 миллиона пользователей, которые так или иначе интересуются фотограф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64000" y="1055520"/>
            <a:ext cx="554508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32036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нсорство специальной а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ия «Каннские Каникулы»  проводилась на проекте Афиша@mail.ru. Акция направлена на повышение узнаваемости марки и коммуникацию ценностей бренда Stella Artois. Рекламная акция представляла собой киновикторину. Главным призом акции станет поездка на Каннский кинофестиваль в мае 2006 года, официальным партнером которого является бренд Stella Arto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24360" y="981000"/>
            <a:ext cx="61560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28432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дрение в интерфей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ия проводилась для компании РОСНО, в стандартный набор почтовых папок была добавлена папка «Не случайно» выделенная бордовым цветом (корпоративный цвет РОСНО). Зайдя в нее, пользователь попадал на страницу, выполненую в дизайне mail.ru, но содержащую брендинговые элементы РОСНО, рекламную графику, текст и ссылки на сайт РОС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6372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любом сайте есть стандартные рекламные места. Они четко прописаны в прайс-листе, для них сформирована  политика скидок и наценок, эти места презентуются рекламным агентствам. Стандартные рекламные блоки располагаются на сайте на оптимальных местах с учетом дизайна рекламной площадки. Зачем же нужны нестандартные размещ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ендиноговые камп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том случае адресность не является необходимой составляющей рекламы и переход на сайт рекламируемого бренда является всего лишь дополнительной опцией. В брендинговых  кампаниях предпочтителен  более длительный контакт с пользователем на рекламной площадке, поскольку именно тут формируется отношение к бренду. При этом  не происходит перехода  на сайт рекламируемого продукта или услуги, вследствие чего, лояльность потребителя к бренду, безусловно, 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ьный рекламный шу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едположим, на странице есть 3 баннерных места, 2 из которых заняты конкурирующими продуктами. Если третий конкурент займет оставшееся место, то внимание пользователя будет более менее равномерно распределяться между примерно равноценными предложениями.  В случае же нестандартного присутствия рекламодатель получает возможность выделится из общего 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озможность достигнуть требуемых показателей (например, числа переходов) стандартны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ъяснимое желание клиента «чего-нибудь нестандартного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клиенты, в силу разных причин, негативно относятся к традиционным видам рекламы, и, не смотря на неочевидность такого выбора, настойчиво требуют «креативных»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ость стандартных мес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разных причин, таких как сезонные пики рекламной активности, большая востребованность определенных разделов, а также вызванные требованиями к юзабилити сайта ограничения на кол-во баннеров на странице, рекламных мест бывает меньше, чем желающих рекламироваться.  В такой ситуации рекламные площадки предлагают клиентам нестандартные варианты рекламного присут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рг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екоторых вариантах размещений площадка приобретает дополнительную пользу. Например контент, или новые возможности  для пользователей, повышающие их лояльность сай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92672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мость. В ряде случаев, когда рекламная площадка получает дополнительные бенефиты, стоимость размещения может быть уменьшена по сравнению с банне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важным преимуществом нестандартного размещения является заметность. Постоянные пользователи портала привыкают к существующему дизайну, они знают, где расположены навигационные элементы, где реклама и где то, зачем они пришли. Нестандартное размещение меняет дизайн, привлекая внимание посетителей сайта своей новиз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0:27:51Z</dcterms:created>
  <dc:creator>Alexey</dc:creator>
  <dc:description/>
  <dc:language>en-US</dc:language>
  <cp:lastModifiedBy>Alexey</cp:lastModifiedBy>
  <dcterms:modified xsi:type="dcterms:W3CDTF">2006-03-16T15:19:36Z</dcterms:modified>
  <cp:revision>12</cp:revision>
  <dc:subject/>
  <dc:title>Нестандартные методы рекламы.  Подходы, технологии, возможности, эффективность.</dc:title>
</cp:coreProperties>
</file>