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375A9-7E1B-486C-8D85-1819D45F8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92360" y="1844640"/>
            <a:ext cx="64087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92360" y="3913560"/>
            <a:ext cx="64087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618C1-48DC-43C3-B245-F7A5C1BD3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92360" y="1844640"/>
            <a:ext cx="3127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6280" y="1844640"/>
            <a:ext cx="3127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92360" y="3913560"/>
            <a:ext cx="3127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6280" y="3913560"/>
            <a:ext cx="3127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BB8C5-CF8F-4CCC-8A23-8CC38A77A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92360" y="1844640"/>
            <a:ext cx="20635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59560" y="1844640"/>
            <a:ext cx="20635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400" y="1844640"/>
            <a:ext cx="20635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92360" y="3913560"/>
            <a:ext cx="20635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59560" y="3913560"/>
            <a:ext cx="20635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400" y="3913560"/>
            <a:ext cx="20635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4F45-1E9F-472E-84F3-478DEE1AB6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92360" y="1844640"/>
            <a:ext cx="640872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2447C-35FD-4C31-AC97-5BBD500EB3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92360" y="1844640"/>
            <a:ext cx="640872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0E2EB-C231-4061-A67D-05C089733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92360" y="1844640"/>
            <a:ext cx="312732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6280" y="1844640"/>
            <a:ext cx="312732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EAB2B-BA5E-4933-84A7-596745194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9F1BF-02B4-4AE7-A39E-EA5A48112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95672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3E1D7-2AF4-41CA-A468-AFD68CFEE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92360" y="1844640"/>
            <a:ext cx="3127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6280" y="1844640"/>
            <a:ext cx="312732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92360" y="3913560"/>
            <a:ext cx="3127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1514C-01B4-4DE7-8E28-0ECDBB60B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92360" y="1844640"/>
            <a:ext cx="312732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6280" y="1844640"/>
            <a:ext cx="3127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6280" y="3913560"/>
            <a:ext cx="3127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74B67-236A-4EF0-89DF-091842F5E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92360" y="1844640"/>
            <a:ext cx="3127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6280" y="1844640"/>
            <a:ext cx="3127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92360" y="3913560"/>
            <a:ext cx="64087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F96CE-42F6-4089-8F2C-9E353AED4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92360" y="1844640"/>
            <a:ext cx="640872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28600"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43040" indent="-228600"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450280" y="6381360"/>
            <a:ext cx="44280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6B72-6DB9-4CF4-9323-5E96898D52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330800" y="6178680"/>
            <a:ext cx="388800" cy="49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56000" y="1568520"/>
            <a:ext cx="3811320" cy="1860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00360" y="3429000"/>
            <a:ext cx="5040360" cy="27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ндекс.Директ: основные принципы и новые возмож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вгений Ломиз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"Управление аудиторией и реклама в Интернете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сква, 16-17 марта 2006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рект: Динамические пока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920" y="1196640"/>
            <a:ext cx="72741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-358920"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в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ы клика на Яндекс.Марк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00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тации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й позиции 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ой страниц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дачи результатов по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00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тации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й позиции на последующих страницах выдачи результатов по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00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транице «Все объявления по запрос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в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ы клика на Яндекс.Марк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00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тации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й позиции на последующих страницах выдачи результатов по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00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транице «Все объявления по запрос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3716280"/>
            <a:ext cx="67676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очнение региона позволяе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ить кликабельность (в среднем на 7-10%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изить цену кл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бежать случайных кликов не своих кли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ительно защититься от скликивающих скриптов, эмулирующих заходы с бразильских и им подобных анонимных прокс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197000"/>
            <a:ext cx="777564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вления, таргетированные на не пересекающиеся регионы, не поднимают друг другу став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сия и Москва – конкурируют по це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 и Киев – н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рект: уточнение реги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а способа управления став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313560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ч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вки назначаются отдельно по каждому ключевому слову каждого объя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каждом клике списывается заявленная фиксированная ста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1600" y="1196640"/>
            <a:ext cx="36324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ма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значается ставка на все ключевые слова объя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явленная цена клика минимизируется п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179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ом пок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179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любому запро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179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любом регио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90000"/>
              </a:lnSpc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, чтобы обеспечить объявлению наилучшую позицию без перепл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рект: тактика выж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7488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lnSpc>
                <a:spcPct val="80000"/>
              </a:lnSpc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рьба за 1-е мест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ение ста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жение реги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рьба за продукт (гарантированные показы или Спецразмещ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ение ста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ение кликаб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5320" indent="-174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точнение ключевых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5320" indent="-174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бота с текстом объя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«вкалывают роботы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ите автоброкер (автоматическую оптимизацию цены кл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ьте цену, которую реально готовы платить за посет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играйте в азартные игры с конкурентами – автоброкер это сделает за вас, не выходя за ваш ценовой пре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763272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lnSpc>
                <a:spcPct val="90000"/>
              </a:lnSpc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ъявлений, старгетированных на несколько регионов и городов, в средне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7-10% больш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чем у объявлений, которые могут видеть все пользователи пои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редне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10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величивается CTR, если одно или несколько слов из рекламной фразы присутствуют в тексте объя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15-17%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ли слова есть в заголовке объя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если заголовок начинается с одного из ключевых слов, средни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аких объявлений выраста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ественно, баннеры в которых задан геотаргетинг, а текст объявления включает в себя слова из рекламной фразы, показывают ещё большую кликабельность: в средне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аких объявлени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30-35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оль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рект: советы на основе статис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53920" y="5805360"/>
            <a:ext cx="624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69696"/>
                </a:solidFill>
                <a:latin typeface="Arial"/>
              </a:rPr>
              <a:t>Источник: внутренняя информац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69696"/>
                </a:solidFill>
                <a:latin typeface="Arial"/>
              </a:rPr>
              <a:t>Просчитана статистика по всем объявлениям Директа за январь-сентябрь 2005 г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рект: стат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052640"/>
            <a:ext cx="792144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параметры: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ы, клики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расход, средняя цена кл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 отче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истика по ключевым словам – за весь период показов объявл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истика по дням/неделям/месяцам – по кампаниям в целом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W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в разбивке по объявления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истика по ключевым словам – в разбивке по дням по каждому объявлен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истика по регионам – в разбивке по объявлениям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NEW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53942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Статистика по площадкам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(скоро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рект: эффек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197000"/>
            <a:ext cx="792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ичество посетител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чество посетителей (надежный показатель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sion ra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свенный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2421000"/>
            <a:ext cx="7921800" cy="37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игрышные стратег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2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сверхузкие профессиональные запросы, высокие став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имулирование прода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широкие + продающие запросы, очень конкретные предложения в текст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влечение посетител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широкие запросы, завлекающие текс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шевой брендин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смежные запросы, запоминающееся название товара/услуг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пунктам 3-4 – важно следить, чтобы фразы не отключались за низки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рект: раздвигая гра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7848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90000"/>
              </a:lnSpc>
              <a:spcBef>
                <a:spcPts val="1225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раничение: трудоемкость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иф «Беззаботный» - передача управления в руки наших менеджеров. Единственной условие – минимальный платеж от 15000 руб. плюс НД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матический бюджет: клиент указывает бюджет в неделю, система автоматически управляет ставками так, чтобы обеспечить ему максимальное количество кликов. Пока открываем для агентств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(скоро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матическое уточнение ключевых слов вместо отключения. Работает на основе статистики запросов, по которым показывалось и кликалось объявление. Улучша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 счет исключения «пустых» показов. Открываем для всех клиентов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(скоро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876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876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рект: раздвигая гра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763272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раничение: нехватка ауди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ключение дополнительных площад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исковые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il.ru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uto.ru, yellowpages.ru, tut.by, all.by, BigMir.net, ...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Цена клика как на поиске Яндек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талог Яндекса цена клика как на поиске Яндек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тические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vel.ru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lerk.ru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oyportal.ru, agrobusiness.ru, medportal.ru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). Цена клика – 0.7 от поиска Яндек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дополнительные площадки, кром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.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можно отключ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700360" y="620640"/>
            <a:ext cx="23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557360"/>
            <a:ext cx="460836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упность: о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б. за посетителя, минимальный заказ: 300 руб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лата по результату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бода эксперимен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ение ценой клика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устанавливать оптимальное соотношение затрат на рекламу и отдачи от не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48360" y="1557360"/>
            <a:ext cx="3529080" cy="33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ранич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четко прогнозируемого бюдж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сть постоянно мониторить и направлять ход кампан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рект: раздвигая гра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96000" y="2349360"/>
            <a:ext cx="117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рект: что это так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4149360"/>
            <a:ext cx="756144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0">
              <a:lnSpc>
                <a:spcPct val="90000"/>
              </a:lnSpc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ирек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это инструмент для размещения контекстной рекламы (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оисков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ематическ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на страницах Яндекса и сайтов-участников Рекламной сети Яндекса с оплатой по переходам и возможностью управлять ценой конта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1125360"/>
            <a:ext cx="2665440" cy="2664000"/>
          </a:xfrm>
          <a:prstGeom prst="borderCallout2">
            <a:avLst>
              <a:gd name="adj1" fmla="val 18750"/>
              <a:gd name="adj2" fmla="val -8333"/>
              <a:gd name="adj3" fmla="val 4291"/>
              <a:gd name="adj4" fmla="val 114592"/>
              <a:gd name="adj5" fmla="val 139152"/>
              <a:gd name="adj6" fmla="val 1154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Поисковая рекла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это реклама, которая показывается в зависимости от того, какой вопрос пользователь задал в строке запроса поисковой систем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1125360"/>
            <a:ext cx="3600720" cy="2951280"/>
          </a:xfrm>
          <a:prstGeom prst="borderCallout2">
            <a:avLst>
              <a:gd name="adj1" fmla="val 18750"/>
              <a:gd name="adj2" fmla="val -8333"/>
              <a:gd name="adj3" fmla="val 3875"/>
              <a:gd name="adj4" fmla="val -12435"/>
              <a:gd name="adj5" fmla="val 124583"/>
              <a:gd name="adj6" fmla="val -13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Тематическая рекла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оказывается на странице сайта при соответствии тематики объявлений содержанию страниц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матика объявлений определяется автоматически по ключевым словам, заданных рекламодателе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828720" y="5157720"/>
            <a:ext cx="237636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0560" y="2290680"/>
            <a:ext cx="3746520" cy="23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вгений Ломи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: 111033, Россия, Москва, ул. Самокатная д.1, стр. 2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фон: +7 (495) 739-7000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с: +7 (095) 974-35-65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. почта: </a:t>
            </a:r>
            <a:r>
              <a:rPr b="0" lang="en-US" sz="1800" spc="-1" strike="noStrike">
                <a:solidFill>
                  <a:srgbClr val="689afe"/>
                </a:solidFill>
                <a:latin typeface="Arial"/>
              </a:rPr>
              <a:t>eml@yandex-team.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71720" y="2865600"/>
            <a:ext cx="270828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7705800" cy="1008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рект: главное - пои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8172360" cy="3951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3068640"/>
            <a:ext cx="5148360" cy="86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2637000"/>
            <a:ext cx="2233440" cy="30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3645000"/>
            <a:ext cx="792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076720" y="3357720"/>
            <a:ext cx="790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700360" y="620640"/>
            <a:ext cx="23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557360"/>
            <a:ext cx="460836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упность: о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б. за посетителя, минимальный заказ: 300 руб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лата по результату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бода эксперимен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ение ценой клика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устанавливать оптимальное соотношение затрат на рекламу и отдачи от не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48360" y="1557360"/>
            <a:ext cx="3529080" cy="33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ранич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четко прогнозируемого бюдж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сть постоянно мониторить и направлять ход кампан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рект: что это так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рект: рост эффектив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227664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кликов на Директ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та 200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февраль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33760" y="1619280"/>
            <a:ext cx="475308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рект: рекламные проду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777564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-358920"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разме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00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ические показы – т. е. при каждом запросе, содержащем ключевы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1137"/>
              </a:spcBef>
              <a:spcAft>
                <a:spcPts val="81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арантированные показы (1-4 позиции в столбце справа от  результатов поиск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00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ические пока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1137"/>
              </a:spcBef>
              <a:spcAft>
                <a:spcPts val="81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-я пози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00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тация (все, кто не купил статические показ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93520" y="5877000"/>
            <a:ext cx="674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ючевые слова пр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мене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5% отключаю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4941720"/>
            <a:ext cx="7416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ат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головок (до 33 символов) + текст (до 75 символов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рект: Спецразме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27416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бор Директовских объявлений для показов в Спецразмещ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0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T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 ставка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оговое знач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ядок объявлений в Спецразмещ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0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убыванию став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рект: гарантированные пока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20108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бор в гарантированные показы (4 шт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0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 неотобранных в Спецразмещение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CTR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х ставк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0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авк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ены клика на Яндекс.Марке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ядок объявлений в гарантированных показ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0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убыванию став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рект: Спецразмеще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аран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7201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ы для отбора в Спецразмещение и гарантированные показы раз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ы ситуации, ког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рантированные показы справа полностью заняты, но в Спецразмещение никто не отобрал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вление перескакивает сразу в Спецразмещение вместо того, чтобы подниматься вверх в правом столбц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8:48:57Z</dcterms:created>
  <dc:creator>AVA</dc:creator>
  <dc:description/>
  <dc:language>en-US</dc:language>
  <cp:lastModifiedBy>eml</cp:lastModifiedBy>
  <dcterms:modified xsi:type="dcterms:W3CDTF">2006-03-16T22:24:40Z</dcterms:modified>
  <cp:revision>373</cp:revision>
  <dc:subject/>
  <dc:title>Возможности контекстной рекламы</dc:title>
</cp:coreProperties>
</file>