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DDC2-AB89-4C66-BBAE-655B1C236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7067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051080"/>
            <a:ext cx="7067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472F-4A92-4F21-98B8-40B5546CD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0880" y="213336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05108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0880" y="405108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5A3F-CA4D-4FF4-9C92-073282652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2275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8960" y="2133360"/>
            <a:ext cx="2275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2133360"/>
            <a:ext cx="2275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051080"/>
            <a:ext cx="2275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8960" y="4051080"/>
            <a:ext cx="2275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4051080"/>
            <a:ext cx="2275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5455-814E-40B7-965C-4C802B38A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2133360"/>
            <a:ext cx="706752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5301-7605-49F8-907E-39BA4F709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70675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6196-C900-4C67-A583-28C84D878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3448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0880" y="2133360"/>
            <a:ext cx="3448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CEF8-1032-4920-B5EE-913D20F75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4C08-4BAD-4F97-9C56-33C55ECEB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1341360"/>
            <a:ext cx="34862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B7DB-A427-47E9-B5A2-A7D71D71D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880" y="2133360"/>
            <a:ext cx="3448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05108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C622-A0ED-4B2F-A5F4-7D1697560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3448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880" y="213336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0880" y="405108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BD68-C7D3-44D3-97FF-644F150B1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0880" y="2133360"/>
            <a:ext cx="3448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051080"/>
            <a:ext cx="7067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3747-D1FD-47AA-8505-EC70DA1D5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1341360"/>
            <a:ext cx="3486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2133360"/>
            <a:ext cx="70675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618920" y="6021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46A-BF08-4304-96F1-F759314EA36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6640" y="952560"/>
            <a:ext cx="321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овые горизонты контекстной рекламы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Бег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3024360" cy="149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29080" y="4365720"/>
            <a:ext cx="1800" cy="194292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797360"/>
            <a:ext cx="419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овые горизонты контекстной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16320" y="549360"/>
            <a:ext cx="3668400" cy="374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5445000"/>
            <a:ext cx="41148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Алексей Басов, Борис Омельницкий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eTARGE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Итоги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905120"/>
            <a:ext cx="7905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2005 стал еще одним годом интенсивного роста контекстной рекламы. Рынок КР составил более половины медийного рекламного ры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211560"/>
            <a:ext cx="67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ынок третий год более чем удваи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ъем составил 35-40 млн. против 12-15 млн. в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57760"/>
            <a:ext cx="67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ходы лид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величились в течение года в 4-5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4506840"/>
            <a:ext cx="76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Р – самый массовый рекламный инстру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течение года ее использовали более 30 000 организ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72280"/>
            <a:ext cx="770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Источник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Исследовательский Центр ЗАО «Бегун».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Экспертна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Сдерживающ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05120"/>
            <a:ext cx="7905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Массовое использование КР порождает факторы, снижающие динамику развития индустрии. </a:t>
            </a:r>
            <a:br>
              <a:rPr sz="2000"/>
            </a:b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Что мешает КР расти еще быстр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211560"/>
            <a:ext cx="755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достаточный объем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тественное распределение интересов создает в ряд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отраслей дефицит аудитории и острую конкурен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075200"/>
            <a:ext cx="7775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т ц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еновые войны снижают привлекательность КР и грозят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сделать ее нерентабельной для низкомаржинальных бизн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940280"/>
            <a:ext cx="76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сложнение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иление конкуренции требует более профессиональног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управления камп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Способы преодо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7905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Стратегия Бегуна - обеспечение доступности и эффективности КР для малого и среднего бизн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924280"/>
            <a:ext cx="755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ащивание медиапростра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ейство технологий Бегун.Автоконтекст сделало контекстным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более 5000 площадок, снизив дисбаланс предложения и сп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859200"/>
            <a:ext cx="82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держивание ц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ширение аудиторий в востребованных нишах уменьша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конкуренцию и сохраняет рентабельность рекла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797360"/>
            <a:ext cx="76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учение клиентов и аккредитация агент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вестиции в обучение и развертывание дилерской се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повышают качество применения К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Технологические тренды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628640"/>
            <a:ext cx="755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мантические и поведенчески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Для повышения релевантности они будут учитывать семантик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страницы, интересы и историю взаимодействия с рекламой.</a:t>
            </a:r>
            <a:br>
              <a:rPr sz="1600"/>
            </a:b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   (Бегун.Автоконтекс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435560"/>
            <a:ext cx="7632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сонализация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соответствия различным бизнесам и рекламным стратегия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ведение кампании станет более гибким и специализированн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(пакеты «Новостной», «Максимальный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60640" y="3367080"/>
            <a:ext cx="648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вые технологии по обработке источников контекс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Позволят привлекать сложно-структурированные контекст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блоги, форумы, интерфейсы, навигационные пане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(Автоконтекст, Гиперконтекст, Блогконтекс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Идеологические тренды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916280"/>
            <a:ext cx="82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волюция моделей оплаты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плата будет развиваться в сторону большей гарантии достижен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результата: действие, продажа, звонок.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(Контекстный звон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3141720"/>
            <a:ext cx="7632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ебования к эффективности рекламод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двинутые модели оплаты повышают зависимость медиа о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востребованности продукта рекламодателя.  Гарантия эффект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усиливает ценз рекламодате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(Усложнение принципов ранжирования объявл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4579920"/>
            <a:ext cx="82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ход КР за пределы интерн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деология КР и оплаты за результат переносится в традиционны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медианосител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(Эксперименты с размещением телефонной КР в пресс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Контекстный зв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905120"/>
            <a:ext cx="7905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Разговор с клиентом - альтернативный принцип гарантии рекламного результата. Позволяет исключить сайт из цепочки продажи. Направлен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3355920"/>
            <a:ext cx="824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Типовые товары и услуги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акие, чьи потребительские характеристики не требуют изучения. </a:t>
            </a:r>
            <a:br>
              <a:rPr sz="1600"/>
            </a:br>
            <a:r>
              <a:rPr b="0" lang="en-US" sz="1600" spc="-1" strike="noStrike">
                <a:solidFill>
                  <a:srgbClr val="777777"/>
                </a:solidFill>
                <a:latin typeface="Verdana"/>
              </a:rPr>
              <a:t>   (доставка еды,  услуги такс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36960" y="4619520"/>
            <a:ext cx="671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00"/>
              </a:buClr>
              <a:buSzPct val="13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ожные опциональные продукты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Такие, состав и качество которых сложно раскрыть через сайт.</a:t>
            </a:r>
            <a:br>
              <a:rPr sz="1600"/>
            </a:b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    (финансовые, юридические, медицинские услуги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1295280"/>
            <a:ext cx="6629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7195"/>
                </a:solidFill>
                <a:latin typeface="Verdana"/>
              </a:rPr>
              <a:t>Пример Контекстного зв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6600" y="2133720"/>
          <a:ext cx="793080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133720"/>
                    <a:ext cx="793080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87280" y="4653000"/>
          <a:ext cx="414180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653000"/>
                    <a:ext cx="414180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572000" y="3141720"/>
          <a:ext cx="3708360" cy="25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141720"/>
                    <a:ext cx="370836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95280" y="3716280"/>
            <a:ext cx="790560" cy="1728720"/>
          </a:xfrm>
          <a:custGeom>
            <a:avLst/>
            <a:gdLst>
              <a:gd name="textAreaLeft" fmla="*/ 105840 w 790560"/>
              <a:gd name="textAreaRight" fmla="*/ 684720 w 79056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5445000"/>
            <a:ext cx="1873080" cy="86364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2627280"/>
            <a:ext cx="2790720" cy="137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5080" y="2494080"/>
            <a:ext cx="1440" cy="194292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2997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7777"/>
                </a:solidFill>
                <a:latin typeface="Verdana"/>
              </a:rPr>
              <a:t>Алексей Басов</a:t>
            </a:r>
            <a:br>
              <a:rPr sz="2000"/>
            </a:b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basov@begun.ru</a:t>
            </a:r>
            <a:br>
              <a:rPr sz="2000"/>
            </a:br>
            <a:r>
              <a:rPr b="0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http://www.begun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3:49:55Z</dcterms:created>
  <dc:creator/>
  <dc:description/>
  <dc:language>en-US</dc:language>
  <cp:lastModifiedBy>Basov</cp:lastModifiedBy>
  <dcterms:modified xsi:type="dcterms:W3CDTF">2006-03-16T23:54:29Z</dcterms:modified>
  <cp:revision>28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3265470</vt:r8>
  </property>
  <property fmtid="{D5CDD505-2E9C-101B-9397-08002B2CF9AE}" pid="3" name="_AuthorEmail">
    <vt:lpwstr>bao@begun.ru</vt:lpwstr>
  </property>
  <property fmtid="{D5CDD505-2E9C-101B-9397-08002B2CF9AE}" pid="4" name="_AuthorEmailDisplayName">
    <vt:lpwstr>Boris A Omelnitskiy</vt:lpwstr>
  </property>
  <property fmtid="{D5CDD505-2E9C-101B-9397-08002B2CF9AE}" pid="5" name="_EmailSubject">
    <vt:lpwstr>Презентация РИФ 2005</vt:lpwstr>
  </property>
  <property fmtid="{D5CDD505-2E9C-101B-9397-08002B2CF9AE}" pid="6" name="_ReviewingToolsShownOnce">
    <vt:lpwstr/>
  </property>
</Properties>
</file>