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2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11.png" ContentType="image/png"/>
  <Override PartName="/ppt/media/image23.png" ContentType="image/png"/>
  <Override PartName="/ppt/media/image13.jpeg" ContentType="image/jpeg"/>
  <Override PartName="/ppt/media/image3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5.png" ContentType="image/pn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334E-2772-4EF2-9E18-F32F9C44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D3CC-372E-4577-ABE9-7ABBB968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C5A7-94E8-4462-AEFE-746BC116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4D66-220A-4828-A255-ABAEFC2B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5B61-4F76-4F78-9DA3-8971753E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75D1-307A-4F25-83A7-FA6352B6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2E51-682E-4C5B-8A9A-F1A0C5F6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EC5C-CCD8-422F-B8D3-9ADCE785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450F-09CA-4CE4-92A0-D0077E89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1D38-DC18-42DE-85C1-3FADB67F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3583-0C18-44E2-B3C3-97DF33FC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A3DC-7A11-4C2D-B721-CCC8BBBA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7F5F-FF76-420A-B34F-A448D063D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280" y="272844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547b"/>
                </a:solidFill>
                <a:latin typeface="Verdana"/>
              </a:rPr>
              <a:t>Комплексный анализ эффективности маркетинговых мероприятий на с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71640" y="1448280"/>
            <a:ext cx="6254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69696"/>
                </a:solidFill>
                <a:latin typeface="Verdana"/>
              </a:rPr>
              <a:t>Управление аудиторией и реклама в Интернет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22680" y="460368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69696"/>
                </a:solidFill>
                <a:latin typeface="Verdana"/>
              </a:rPr>
              <a:t>Сергей Рыж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69696"/>
                </a:solidFill>
                <a:latin typeface="Verdana"/>
              </a:rPr>
              <a:t>директор компании «Битрик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97000" y="1314360"/>
            <a:ext cx="96192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080" y="1166760"/>
            <a:ext cx="9043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Глобальный идентификатор собы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2336760"/>
            <a:ext cx="4572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переходе на сайт регистратора в ссылке указывается специальный параметр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VENT_GID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RAFT_SM.MTE2OTc1LjM0MjcuUlUuOS5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этом числе закодированы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D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етите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кламная кампания, по которой он пришел на сайт, и другие дан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начение вручную фиксируется менеджерами в системе статистики сайта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ля анализа финансовой эффективности рекламных кампаний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62360" y="2124000"/>
            <a:ext cx="4021200" cy="2760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977160" y="4522680"/>
            <a:ext cx="1755720" cy="451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80080" y="5145120"/>
            <a:ext cx="385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Купон на скидку в магазине компании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Kra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080" y="1168200"/>
            <a:ext cx="9043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Регистрация со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7360" y="5138640"/>
            <a:ext cx="815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основе полученных данных система определяет, в результате какой рекламной кампании получена прибыль, и распределяет сведения по потокам посетителей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вычисления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I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14320" y="2109960"/>
            <a:ext cx="7515360" cy="2638080"/>
          </a:xfrm>
          <a:prstGeom prst="rect">
            <a:avLst/>
          </a:prstGeom>
          <a:ln w="3240">
            <a:solidFill>
              <a:srgbClr val="dddddd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2381400" y="4836960"/>
            <a:ext cx="409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Ручной ввод событий (покупка в магазине) на сай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0080" y="1166760"/>
            <a:ext cx="9043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Дополнительные критерии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35080" y="2209320"/>
            <a:ext cx="48765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полнительно система статистики анализиру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ую посещаемость сай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еографию по страна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дексацию сайта поисковик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сылающиеся сай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исковые фраз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ссии и хи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торию посетите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P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посетите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етителей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line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оп-ли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876920" y="2438280"/>
            <a:ext cx="4005000" cy="2799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16400" y="5181480"/>
            <a:ext cx="336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График индексации сайта поисковиком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Goog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080" y="1165320"/>
            <a:ext cx="9043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Примеры: </a:t>
            </a:r>
            <a:r>
              <a:rPr b="0" lang="en-US" sz="2800" spc="-1" strike="noStrike">
                <a:solidFill>
                  <a:srgbClr val="3c7ab2"/>
                </a:solidFill>
                <a:latin typeface="Verdana"/>
              </a:rPr>
              <a:t>Yandex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52280" y="220932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ика позволяет определить наиболее эффективные фразы и слова, используемые в рекламе через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andexDirec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ерез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оисков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ерез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нешние сайты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р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ффективность инструмен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1=yd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r2=cms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1=yd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r2=sm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р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ффективность способ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r1=yandex_dir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2=c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r1=y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2=c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83080" y="55627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bedd"/>
                </a:solidFill>
                <a:latin typeface="Arial Black"/>
              </a:rPr>
              <a:t>Откажитесь от неэффективных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835520" y="2585880"/>
            <a:ext cx="3963960" cy="2740320"/>
          </a:xfrm>
          <a:prstGeom prst="rect">
            <a:avLst/>
          </a:prstGeom>
          <a:ln w="3240">
            <a:solidFill>
              <a:srgbClr val="ddddd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1600" y="1166760"/>
            <a:ext cx="87026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Примеры: Анализ рекламы в </a:t>
            </a:r>
            <a:r>
              <a:rPr b="0" lang="en-US" sz="2800" spc="-1" strike="noStrike">
                <a:solidFill>
                  <a:srgbClr val="3c7ab2"/>
                </a:solidFill>
                <a:latin typeface="Verdana"/>
              </a:rPr>
              <a:t>Yandex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82760" y="2355840"/>
            <a:ext cx="3865320" cy="1617840"/>
          </a:xfrm>
          <a:prstGeom prst="rect">
            <a:avLst/>
          </a:prstGeom>
          <a:ln w="3240">
            <a:solidFill>
              <a:srgbClr val="9bbedd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562720" y="2351160"/>
            <a:ext cx="2361960" cy="16444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5560920" y="4383000"/>
            <a:ext cx="2363760" cy="164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469800" y="4394160"/>
            <a:ext cx="3886200" cy="1623960"/>
          </a:xfrm>
          <a:prstGeom prst="rect">
            <a:avLst/>
          </a:prstGeom>
          <a:ln w="3240">
            <a:solidFill>
              <a:srgbClr val="9bbedd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56000" y="3932280"/>
            <a:ext cx="320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Эффективная реклама (положительный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OI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6800" y="5969160"/>
            <a:ext cx="331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Неэффективная реклама (отрицательный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OI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17520" y="3936960"/>
            <a:ext cx="209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График посещаемости по Р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17520" y="5969160"/>
            <a:ext cx="209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График посещаемости по Р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38560" y="3619440"/>
            <a:ext cx="457200" cy="30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51160" y="5638680"/>
            <a:ext cx="457200" cy="30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080" y="1181160"/>
            <a:ext cx="9043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Примеры: Баннерная рекл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28600" y="2743200"/>
            <a:ext cx="5486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д проведением масштабной рекламной кампании рекомендуется оценить результаты пробной рекламной кампании и определить наиболее эффективны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кламные площад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струменты (размер и расположение баннера на страниц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пособы рекламы (контент баннер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53120" y="2001960"/>
            <a:ext cx="412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547b"/>
                </a:solidFill>
                <a:latin typeface="Verdana"/>
              </a:rPr>
              <a:t>Методика пробных рекламных камп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09480" y="4419720"/>
            <a:ext cx="2667240" cy="18399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778360" y="2565360"/>
            <a:ext cx="3276720" cy="3225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141560" y="4643280"/>
            <a:ext cx="2130120" cy="6130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5837400"/>
            <a:ext cx="533520" cy="4284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080" y="1193760"/>
            <a:ext cx="9043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Новости и пресс-рели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90080" y="2666520"/>
            <a:ext cx="44960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ффективность каналов распространения новостей и пресс-релизов определяется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трем критериям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араметры в ссылке (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1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2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сылающиеся сай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Уникальный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0120" y="521964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bbedd"/>
                </a:solidFill>
                <a:latin typeface="Arial Black"/>
              </a:rPr>
              <a:t>Поиск эффективных площа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699080" y="2463840"/>
            <a:ext cx="419076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457880" y="2259000"/>
            <a:ext cx="4479840" cy="3429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080" y="1168200"/>
            <a:ext cx="9043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Почтовые рассы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52280" y="2079360"/>
            <a:ext cx="42674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артинка в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tml-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текст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img/graf.gif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ключает статистику и отдает файл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images/graf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зможно начало рекламной кампании по открытию письма или создание события в рамках текущей рекламной кампании (открытие письм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пециальные ссылки (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1 r2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традиционный вариант выделения рекламной камп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89520" y="4683240"/>
            <a:ext cx="989280" cy="765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080" y="1295280"/>
            <a:ext cx="9043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Форма регистрации партн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51920" y="2654280"/>
            <a:ext cx="39625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оценки рекламных кампаний по привлечению партнеров регистрация партнера на сайте учитывается как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быти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3416400"/>
            <a:ext cx="3810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тчете о рекламной кампании указывается, сколько партнеров было привлечено благодаря этой рекла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140360" y="2235240"/>
            <a:ext cx="464796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84880" y="2654280"/>
            <a:ext cx="3504960" cy="2689200"/>
          </a:xfrm>
          <a:prstGeom prst="rect">
            <a:avLst/>
          </a:prstGeom>
          <a:ln w="3240">
            <a:solidFill>
              <a:srgbClr val="9bbedd"/>
            </a:solidFill>
            <a:miter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080" y="1295280"/>
            <a:ext cx="9043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Внутренняя реклама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51920" y="2692440"/>
            <a:ext cx="4876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показа избранного контента определенной аудитории используются специальные параметры управления внутренней рекламо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кламная камп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а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делы и страницы сай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етители (первый раз на сайте или вернулс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сто размещения баннера на сай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иод показа с настройкой по часам и дням недел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личество кл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ее число показов баннер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ло показов для одного посетите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ло посетителей, которым будет показан банн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15080" y="552456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bedd"/>
                </a:solidFill>
                <a:latin typeface="Arial Black"/>
              </a:rPr>
              <a:t>Эффективная работа с аудитор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58640" y="2057400"/>
            <a:ext cx="47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547b"/>
                </a:solidFill>
                <a:latin typeface="Verdana"/>
              </a:rPr>
              <a:t>как инструмент работы с потоками посети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5960" y="3225960"/>
            <a:ext cx="1143000" cy="1295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220968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3c7ab2"/>
                </a:solidFill>
                <a:latin typeface="Verdana"/>
              </a:rPr>
              <a:t>«Маркетологов придумали для того, чтобы синоптики на их фоне не выглядели так бледн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547b"/>
                </a:solidFill>
                <a:latin typeface="Verdana"/>
              </a:rPr>
              <a:t>Профессиональная шутка маркетол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7ab2"/>
                </a:solidFill>
                <a:latin typeface="Verdana"/>
              </a:rPr>
              <a:t>Событийный анализ придуман для того, чтобы маркетологи не выглядели синопт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547b"/>
                </a:solidFill>
                <a:latin typeface="Verdana"/>
              </a:rPr>
              <a:t>«Битрик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080" y="1295280"/>
            <a:ext cx="9043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Специальные маркетинговые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51920" y="2514600"/>
            <a:ext cx="4800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ализация договоренности с рекламными площадк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мещаем рекламу на площад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лаем ссылку с параметрами рекламной камп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пользуя внутреннюю рекламу с таргетингом по данной рекламной кампании, формируем на сайте уникальное торговое предло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5486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bedd"/>
                </a:solidFill>
                <a:latin typeface="Arial Black"/>
              </a:rPr>
              <a:t>100% эффективности внутренней рекла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3047760" cy="1863720"/>
          </a:xfrm>
          <a:prstGeom prst="rect">
            <a:avLst/>
          </a:prstGeom>
          <a:ln w="3240">
            <a:solidFill>
              <a:srgbClr val="9bbedd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181480" y="2438280"/>
            <a:ext cx="3757680" cy="2800440"/>
          </a:xfrm>
          <a:prstGeom prst="rect">
            <a:avLst/>
          </a:prstGeom>
          <a:ln w="3240">
            <a:solidFill>
              <a:srgbClr val="d9d9d9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380880" y="5486400"/>
            <a:ext cx="914400" cy="530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7280" y="2819520"/>
            <a:ext cx="914400" cy="530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0080" y="1295280"/>
            <a:ext cx="9043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Офлайновая и </a:t>
            </a:r>
            <a:r>
              <a:rPr b="0" lang="en-US" sz="2800" spc="-1" strike="noStrike">
                <a:solidFill>
                  <a:srgbClr val="3c7ab2"/>
                </a:solidFill>
                <a:latin typeface="Verdana"/>
              </a:rPr>
              <a:t>VIP-</a:t>
            </a: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рекл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14480" y="2514240"/>
            <a:ext cx="4381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ценка эффективности офлайновой и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IP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кла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 Выделение рекламного потока по доменному имен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 Размещение в офлайн-изданиях рекламы с ссылкой на сайт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2.company.com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бо спец доменное имя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www.promo.com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здание рекламной кампании (в качестве критерия выделения потока используется доменное имя), возможен редирект на основной сайт компании с параметрами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1=promo.com&amp;r2=PCm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Анализ эффективности выделенной рекламной камп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5105520"/>
            <a:ext cx="4114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bedd"/>
                </a:solidFill>
                <a:latin typeface="Arial Black"/>
              </a:rPr>
              <a:t>Оцените затраты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bedd"/>
                </a:solidFill>
                <a:latin typeface="Arial Black"/>
              </a:rPr>
              <a:t>офлайн-реклам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572000" y="2425680"/>
            <a:ext cx="44323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080" y="1295280"/>
            <a:ext cx="9043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2577960"/>
            <a:ext cx="320040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7ab2"/>
                </a:solidFill>
                <a:latin typeface="Verdana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95)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63-37-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чтовый адр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29626, Россия, г. Москв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л. Староалексеевская, д. 21, офис 4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4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46760" y="2592360"/>
            <a:ext cx="337032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7ab2"/>
                </a:solidFill>
                <a:latin typeface="Verdana"/>
              </a:rPr>
              <a:t>Калинингр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0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2)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1-05-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чтовый адр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36000, Россия, г. Калининград, Московский проспект, 2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87280" y="4927680"/>
            <a:ext cx="685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-mail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отдела продаж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3c7ab2"/>
                </a:solidFill>
                <a:latin typeface="Verdana"/>
              </a:rPr>
              <a:t>sales@bitrixsoft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дрес сайта: </a:t>
            </a:r>
            <a:r>
              <a:rPr b="1" lang="en-US" sz="1400" spc="-1" strike="noStrike">
                <a:solidFill>
                  <a:srgbClr val="3c7ab2"/>
                </a:solidFill>
                <a:latin typeface="Verdana"/>
              </a:rPr>
              <a:t>http://www.bitrixsoft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8240" y="1168200"/>
            <a:ext cx="888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Событийный 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5040" y="2302560"/>
            <a:ext cx="76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егментация аудитории на пото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4480" y="1765440"/>
            <a:ext cx="89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c7cb6"/>
                </a:solidFill>
                <a:latin typeface="Verdana"/>
              </a:rPr>
              <a:t>Основа для оценки эффективности рекламных камп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1640" y="599436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bedd"/>
                </a:solidFill>
                <a:latin typeface="Arial Black"/>
              </a:rPr>
              <a:t>Как за цифрами увидеть событ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71520" y="4656240"/>
            <a:ext cx="1042920" cy="50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081760" y="4743360"/>
            <a:ext cx="718920" cy="384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997520" y="3475080"/>
            <a:ext cx="517320" cy="533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58920" y="3554280"/>
            <a:ext cx="1272960" cy="327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2960" y="3102120"/>
            <a:ext cx="33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16493"/>
                </a:solidFill>
                <a:latin typeface="Verdana"/>
              </a:rPr>
              <a:t>Переходы по баннерной рекла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98600" y="3094200"/>
            <a:ext cx="18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16493"/>
                </a:solidFill>
                <a:latin typeface="Verdana"/>
              </a:rPr>
              <a:t>Переходы с сай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46360" y="3513240"/>
            <a:ext cx="259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referer1=c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referer2=topb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4335480"/>
            <a:ext cx="304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16493"/>
                </a:solidFill>
                <a:latin typeface="Verdana"/>
              </a:rPr>
              <a:t>Переходы с поисковых сист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3160" y="48560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yandex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3120" y="4335480"/>
            <a:ext cx="20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16493"/>
                </a:solidFill>
                <a:latin typeface="Verdana"/>
              </a:rPr>
              <a:t>Посетители из 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24960" y="4805280"/>
            <a:ext cx="179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P-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дрес посет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33000" y="3578400"/>
            <a:ext cx="173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www.computerr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93600" y="3533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69696"/>
                </a:solidFill>
                <a:latin typeface="Arial"/>
              </a:rPr>
              <a:t>2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27360" y="3444840"/>
            <a:ext cx="854280" cy="527040"/>
          </a:xfrm>
          <a:prstGeom prst="ellipse">
            <a:avLst/>
          </a:prstGeom>
          <a:noFill/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92480" y="35082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69696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6240" y="3419640"/>
            <a:ext cx="854280" cy="527040"/>
          </a:xfrm>
          <a:prstGeom prst="ellipse">
            <a:avLst/>
          </a:prstGeom>
          <a:noFill/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55400" y="4811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69696"/>
                </a:solidFill>
                <a:latin typeface="Arial"/>
              </a:rPr>
              <a:t>1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89160" y="4722840"/>
            <a:ext cx="854280" cy="527040"/>
          </a:xfrm>
          <a:prstGeom prst="ellipse">
            <a:avLst/>
          </a:prstGeom>
          <a:noFill/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65800" y="4761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69696"/>
                </a:solidFill>
                <a:latin typeface="Arial"/>
              </a:rPr>
              <a:t>3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99560" y="4672080"/>
            <a:ext cx="853920" cy="527040"/>
          </a:xfrm>
          <a:prstGeom prst="ellipse">
            <a:avLst/>
          </a:prstGeom>
          <a:noFill/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3480" y="2619360"/>
            <a:ext cx="705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ика событийного анализа позволяет отказаться от статистических методов анали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840" y="5543640"/>
            <a:ext cx="75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 важно, сколько посетителей пришло на сайт, важно, какие действия они совершили на сай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8240" y="1168200"/>
            <a:ext cx="8881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Событийный 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5040" y="1972080"/>
            <a:ext cx="769608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нализ выделенных потоков по 4 составляющим: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атистические да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имание к контен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бы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Финансовые показатели 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I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57360" y="3673440"/>
            <a:ext cx="7010280" cy="2590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178520" y="392256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13000" y="3922560"/>
            <a:ext cx="6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Контен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78000" y="3922560"/>
            <a:ext cx="65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Событ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95280" y="3917880"/>
            <a:ext cx="36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O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41760" y="4583160"/>
            <a:ext cx="125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4f74"/>
                </a:solidFill>
                <a:latin typeface="Verdana"/>
              </a:rPr>
              <a:t>Аудитор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4f74"/>
                </a:solidFill>
                <a:latin typeface="Verdana"/>
              </a:rPr>
              <a:t>сай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78520" y="448308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13000" y="4483080"/>
            <a:ext cx="6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Контен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78000" y="4483080"/>
            <a:ext cx="65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Событ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95280" y="4478400"/>
            <a:ext cx="36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O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78520" y="502920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13000" y="5029200"/>
            <a:ext cx="6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Контен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78000" y="5029200"/>
            <a:ext cx="65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Событ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95280" y="5024520"/>
            <a:ext cx="36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O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78520" y="5600880"/>
            <a:ext cx="79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13000" y="5600880"/>
            <a:ext cx="6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Контен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78000" y="5600880"/>
            <a:ext cx="65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Событ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95280" y="5595840"/>
            <a:ext cx="36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O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39280" y="390996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4f74"/>
                </a:solidFill>
                <a:latin typeface="Verdana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41160" y="4468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4f74"/>
                </a:solidFill>
                <a:latin typeface="Verdana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53760" y="50148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4f74"/>
                </a:solidFill>
                <a:latin typeface="Verdana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26680" y="5573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4f74"/>
                </a:solidFill>
                <a:latin typeface="Verdana"/>
              </a:rPr>
              <a:t>3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080" y="1165320"/>
            <a:ext cx="9043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Анализ потока посет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240" y="2242800"/>
            <a:ext cx="7467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тчетах по потоку посетителей представле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2548080"/>
            <a:ext cx="4572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ло переход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ло новых посет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ло уникальных посет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никальные хос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ло просмотренных страниц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бавление сайта в избранно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звраты посетителей на сай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атистика посетителей на возврат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намика потока по дням и граф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1000" y="1738440"/>
            <a:ext cx="246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547b"/>
                </a:solidFill>
                <a:latin typeface="Verdana"/>
              </a:rPr>
              <a:t>Статистические да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4405320"/>
            <a:ext cx="7583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тические коэффициен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етител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ктивность и внимат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вые посетител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звр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202360" y="2362320"/>
            <a:ext cx="3560760" cy="2493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246640" y="4986360"/>
            <a:ext cx="106668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2000" y="2349000"/>
            <a:ext cx="4419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выделенному потоку анализиру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72280" y="1808280"/>
            <a:ext cx="22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547b"/>
                </a:solidFill>
                <a:latin typeface="Verdana"/>
              </a:rPr>
              <a:t>Внимание к контен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2000" y="2730600"/>
            <a:ext cx="5790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28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ещенные разделы и стра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ещаемость разделов и страниц в динамике по дня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чки входа на сай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чки выхо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ути по сай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резки пу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1320" y="5859360"/>
            <a:ext cx="43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анные учитываются на прямом заходе и на возвра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00080" y="1179360"/>
            <a:ext cx="9043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Анализ потока посет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2000" y="4019400"/>
            <a:ext cx="3733560" cy="1347840"/>
          </a:xfrm>
          <a:prstGeom prst="rect">
            <a:avLst/>
          </a:prstGeom>
          <a:ln w="3240">
            <a:solidFill>
              <a:srgbClr val="5f97c9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239040" y="5459400"/>
            <a:ext cx="182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Посещаемость раздел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548320" y="3057480"/>
            <a:ext cx="3330720" cy="130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697360" y="3844800"/>
            <a:ext cx="3116520" cy="1965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809120" y="3200400"/>
            <a:ext cx="109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Путь по сайт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36760" y="5880240"/>
            <a:ext cx="116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Отрезки пут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89160" y="5815080"/>
            <a:ext cx="44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547b"/>
                </a:solidFill>
                <a:latin typeface="Verdana"/>
              </a:rPr>
              <a:t>Распределение потока посетителей по сай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080" y="1179360"/>
            <a:ext cx="9043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Анализ потока посет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141640" y="1955880"/>
            <a:ext cx="4500360" cy="3635280"/>
          </a:xfrm>
          <a:prstGeom prst="rect">
            <a:avLst/>
          </a:prstGeom>
          <a:ln w="3240">
            <a:solidFill>
              <a:srgbClr val="31649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0080" y="1168200"/>
            <a:ext cx="9043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Анализ собы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52280" y="2017800"/>
            <a:ext cx="8785440" cy="24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ханизм подсчета событий на сайте позволяет зарегистрировать любое действие (событие) посетите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купка в интернет-магазин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ход по ссылке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внешний сай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ик по баннер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гистрация на сай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полнение анке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частие в опрос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общение в форум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качивание файла и другие собы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9680" y="5173560"/>
            <a:ext cx="50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bedd"/>
                </a:solidFill>
                <a:latin typeface="Arial Black"/>
              </a:rPr>
              <a:t>События настраиваются индивидуально для каждого с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72000" y="4599000"/>
            <a:ext cx="530388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Рекламные кампании, в результате которых посетител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зарегистрировались на семина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884760" y="2438280"/>
            <a:ext cx="518796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80" y="1166760"/>
            <a:ext cx="9043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7ab2"/>
                </a:solidFill>
                <a:latin typeface="Verdana"/>
              </a:rPr>
              <a:t>ROI</a:t>
            </a: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 или</a:t>
            </a:r>
            <a:r>
              <a:rPr b="0" lang="en-US" sz="2800" spc="-1" strike="noStrike">
                <a:solidFill>
                  <a:srgbClr val="3c7ab2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3c7ab2"/>
                </a:solidFill>
                <a:latin typeface="Verdana"/>
              </a:rPr>
              <a:t>рентабельность рекламы</a:t>
            </a:r>
            <a:r>
              <a:rPr b="0" lang="en-US" sz="2800" spc="-1" strike="noStrike">
                <a:solidFill>
                  <a:srgbClr val="3c7ab2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1920" y="2209320"/>
            <a:ext cx="6172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формация о прибыли, полученной по оплаченным заказам, фиксируется в системе статистики как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оход от рекламной кампани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траты на рекламу автоматически вычитаются, и в отчете показывается только чистый доход от рекламной камп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эффициент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I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* рассчитывается автоматически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I (Return on Investments)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й показатель эффективности рекламной кампании, процентное соотношение прибыли и затр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78440" y="50292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bedd"/>
                </a:solidFill>
                <a:latin typeface="Arial Black"/>
              </a:rPr>
              <a:t>Расчет </a:t>
            </a:r>
            <a:r>
              <a:rPr b="0" lang="en-US" sz="1800" spc="-1" strike="noStrike">
                <a:solidFill>
                  <a:srgbClr val="9bbedd"/>
                </a:solidFill>
                <a:latin typeface="Arial Black"/>
              </a:rPr>
              <a:t>ROI – </a:t>
            </a:r>
            <a:r>
              <a:rPr b="0" lang="ru-RU" sz="1800" spc="-1" strike="noStrike">
                <a:solidFill>
                  <a:srgbClr val="9bbedd"/>
                </a:solidFill>
                <a:latin typeface="Arial Black"/>
              </a:rPr>
              <a:t>цель анализа рекламных камп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49568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загрузке новых отчетов о продажах система выполняет перерасчет прибыли из любых валют, поэтому в отчете представлены самые актуальные данные о финансовой эффективности рекламной камп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477120" y="2590920"/>
            <a:ext cx="2495520" cy="1152360"/>
          </a:xfrm>
          <a:prstGeom prst="rect">
            <a:avLst/>
          </a:prstGeom>
          <a:ln w="3240">
            <a:solidFill>
              <a:srgbClr val="9bbedd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6400800" y="3162240"/>
            <a:ext cx="2590920" cy="3812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1:38:15Z</dcterms:created>
  <dc:creator>Natalia Grikhina</dc:creator>
  <dc:description/>
  <dc:language>en-US</dc:language>
  <cp:lastModifiedBy>Sergey Rizhikov</cp:lastModifiedBy>
  <dcterms:modified xsi:type="dcterms:W3CDTF">2006-03-16T07:26:06Z</dcterms:modified>
  <cp:revision>2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