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EF7F-45E2-431A-A157-0CAE67FC5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4BD0-A269-4462-976B-73131A34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2F54-8279-445D-A9D6-E96DB42C1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1D2B-287B-4788-8C88-94175D13C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5E83-2477-43E7-BB71-6B2463B6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E6D2-186E-4229-B519-B921085B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7E51-5651-402D-9A28-9F680B47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D676-8BCE-41E1-87C0-5F024AD3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3513-F2B3-449F-B637-54EDF3E6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6278-03AE-49F5-9C0A-8CE2D0A1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4A31-B927-426F-8A0B-4C5EF93E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DC86-FE0C-4EF4-9DC8-96AEF50F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FDEF-5D46-45B7-8253-EEF5AE2A4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2000" y="270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Ошибки в медиапланиров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651640" y="6308640"/>
            <a:ext cx="3240000" cy="473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71640" y="6308640"/>
            <a:ext cx="450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92000" y="54900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Первая кампания = ри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1640" y="6308640"/>
            <a:ext cx="3240000" cy="473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71640" y="6308640"/>
            <a:ext cx="450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92360" y="1989000"/>
            <a:ext cx="720072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 вторая уже может име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ргументированные возмо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нятия эффективности / результати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92000" y="2349360"/>
            <a:ext cx="777240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и немного «на сладко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651640" y="6308640"/>
            <a:ext cx="3240000" cy="4730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71640" y="6308640"/>
            <a:ext cx="450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92000" y="108864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Артон 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651640" y="6308640"/>
            <a:ext cx="3240000" cy="4730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71640" y="6308640"/>
            <a:ext cx="450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11640" y="2708280"/>
            <a:ext cx="52210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шманов и партн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11280" y="1989000"/>
            <a:ext cx="66927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при участии экспертов</a:t>
            </a: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и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92000" y="54900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Представля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651640" y="6308640"/>
            <a:ext cx="3240000" cy="473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71640" y="6308640"/>
            <a:ext cx="450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92360" y="3068640"/>
            <a:ext cx="6300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HTTP : / 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ST . ARTON . RU 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32000" y="1989000"/>
            <a:ext cx="66927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«Тест Интернет-Рекламис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50920" y="4689360"/>
            <a:ext cx="7201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 попробуете это перв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324936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Обесцене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651640" y="6308640"/>
            <a:ext cx="3240000" cy="473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71640" y="6308640"/>
            <a:ext cx="450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92000" y="1989000"/>
            <a:ext cx="72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ирование рекламы в интерн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92000" y="54900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Начинаем делать медиапл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651640" y="6308640"/>
            <a:ext cx="3240000" cy="473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71640" y="6308640"/>
            <a:ext cx="450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0920" y="1989000"/>
            <a:ext cx="558036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рем открытую статист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рем собственные базы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чинаем взвешивать с цель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11640" y="4329000"/>
            <a:ext cx="540072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ть максимальный охв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ыгодной цене за 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92000" y="54900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Критерии типичной 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651640" y="6308640"/>
            <a:ext cx="3240000" cy="4730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71640" y="6308640"/>
            <a:ext cx="450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32000" y="1989000"/>
            <a:ext cx="55800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нам не нра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десь надо уменьш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где моя любимая площад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юда же никто не ходи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очень дор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651640" y="6308640"/>
            <a:ext cx="3240000" cy="473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971640" y="6308640"/>
            <a:ext cx="450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11280" y="1808280"/>
            <a:ext cx="6840720" cy="23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иент пытается быть «профи»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ы не допустить надуватель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 стороны агент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92000" y="54900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Иначе им подсу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651640" y="6308640"/>
            <a:ext cx="3240000" cy="473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71640" y="6308640"/>
            <a:ext cx="450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71640" y="2168640"/>
            <a:ext cx="61200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гентство больше заработ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гентство имеет обязательства по прода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2000" y="1089000"/>
            <a:ext cx="77724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то, гд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92000" y="4149720"/>
            <a:ext cx="756000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ыми словами продаду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боль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», да 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орож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92000" y="54900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Arial"/>
              </a:rPr>
              <a:t>Медиа пл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651640" y="6308640"/>
            <a:ext cx="3240000" cy="473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71640" y="6308640"/>
            <a:ext cx="450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50920" y="2529000"/>
            <a:ext cx="7201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го и оценивают как «кофточку» на рын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1640" y="3249720"/>
            <a:ext cx="540072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равитс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р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воря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это хорошо или 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92000" y="1268280"/>
            <a:ext cx="77724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превратился в прайс-ли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92000" y="54900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Из традиционной рекла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651640" y="6308640"/>
            <a:ext cx="3240000" cy="473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71640" y="6308640"/>
            <a:ext cx="450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11280" y="1808280"/>
            <a:ext cx="64818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Половина бюджета теряется, только не известно какая полов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92360" y="3249720"/>
            <a:ext cx="70516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Но ведь Интерн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4149720"/>
            <a:ext cx="64818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чти «ПРОЗРАЧЕН»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640" y="378900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Исследованием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651640" y="6308640"/>
            <a:ext cx="3240000" cy="4730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71640" y="6308640"/>
            <a:ext cx="450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1808280"/>
            <a:ext cx="727236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ждая рекламная камп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лжна бы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0:15:26Z</dcterms:created>
  <dc:creator>Dmitry</dc:creator>
  <dc:description/>
  <dc:language>en-US</dc:language>
  <cp:lastModifiedBy>Dm</cp:lastModifiedBy>
  <dcterms:modified xsi:type="dcterms:W3CDTF">2006-03-15T19:59:48Z</dcterms:modified>
  <cp:revision>21</cp:revision>
  <dc:subject/>
  <dc:title>Заголовок</dc:title>
</cp:coreProperties>
</file>