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A5AAA-F5F0-49E6-9900-9C0205F1DB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06F29-87CF-47D7-8581-BE19F9FD90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5A7C2-7844-431E-9311-1BF72B1975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63E6C-04CB-4E15-B145-6EC0BD0964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1E6FD-CD51-41EF-BE61-7791DE84FB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94159-DDA0-4F35-8B97-414BAC3A5B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68542-5936-4C3A-85A2-81DF8EAE11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32D09-E771-45CB-90D3-DC722FE587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476C6-F0A8-4593-8AB8-172A910405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2B982-D0BD-45DC-812D-751D86A172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33D8F-6821-4A2F-95BB-5E11E723B1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5FF00-168E-49C6-95EC-4128CF9AE4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FA65C-CD17-4B9F-9192-682F816182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B13BD-226F-4D23-8E25-0D11E6E35F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188C7-16CA-4805-98B6-A2FCCE6632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EE027-DD2E-4FFA-8341-F187FC6A5A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E2445-0D54-4402-9B62-12BFA8AB62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EF52E-533D-41C1-A30D-DF1350F71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2DCB1-3FAE-4BDE-8D9B-8CEAF97A26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F120D-0B96-4A96-A8D4-31F06B6BB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9D947-62EF-402D-9ADF-0387D92B4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4DE2C-6D74-4260-8C91-7691FAC550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2C637-7DC9-4FF4-9496-831B0B33E0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A1332-2CEC-4BA9-83FD-74B879957F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3F11-2754-4E89-AD21-40B7E2FBCC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539640" y="5397480"/>
            <a:ext cx="852480" cy="74448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09480" y="1295280"/>
            <a:ext cx="8344080" cy="11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750C-2AD5-4DC6-89AE-14335470B0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9640" y="5397480"/>
            <a:ext cx="852480" cy="744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09480" y="2590920"/>
            <a:ext cx="8344080" cy="1162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Особенности продвижения региональных сайтов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2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Доклад рассматривает основные аспекты  продвижения региональных сайтов, их отличия от московских ресурсов;  особенности проведения  рекламных кампаний и поисковой оптимизации для региональных сайтов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Основные инструменты регионального продвижения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457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нтекстная поисковая реклам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457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дийная реклам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457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исковая оптимизац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457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гиональные каталог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Контекстная поисковая реклам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2209680"/>
            <a:ext cx="26668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нтекстная поисковая реклама позволяет охватить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сю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целевую аудиторию поисковых систем. Единственной проблемой является невольное соперничество с большим количеством нетагретированных объявл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067280" y="2205000"/>
            <a:ext cx="454644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едийная реклам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22440" indent="-60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стные региональные ресурс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22440" indent="-60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рупные баннерные сети с геотаргетинго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22440" indent="-60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рупные портал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058840" indent="-533160">
              <a:spcBef>
                <a:spcPts val="45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Яндекс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– минимальный заказ 30 000 рублей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058840" indent="-533160">
              <a:spcBef>
                <a:spcPts val="45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Рамблер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– минимальный заказ 15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058840" indent="-533160">
              <a:spcBef>
                <a:spcPts val="45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MAIL.RU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– минимальный заказ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000$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05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05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Поисковая оптимизац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обенност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556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ложность оценки спрос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556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гиональный чекбок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777240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Региональные каталог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егистрация сайта в региональных каталогах обязательна, так как посещаемость с них достаточно велика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Вопросы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9:48:41Z</dcterms:created>
  <dc:creator>Minyaev</dc:creator>
  <dc:description/>
  <dc:language>en-US</dc:language>
  <cp:lastModifiedBy>Andrey</cp:lastModifiedBy>
  <dcterms:modified xsi:type="dcterms:W3CDTF">2006-03-14T10:17:46Z</dcterms:modified>
  <cp:revision>34</cp:revision>
  <dc:subject/>
  <dc:title>Слайд 1</dc:title>
</cp:coreProperties>
</file>