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9F3C-AE11-4DDF-9342-DDB68F96B2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F72-848F-4E55-8F98-6BF168E6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D38-F4AF-4F9E-AF24-A730A77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C3A-1348-4618-AD8B-0406F190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5F1-CAC1-4984-83E4-9A0781AB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075-337F-4AFF-ADB3-D20328B3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370-8948-493C-B923-F2CDFA47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7BF-FAD5-40FC-B942-89E67FA8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FBE-33DD-4594-8E9D-E8DDFC57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22F-D9CC-4E5B-8418-4BED6E5A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848-5220-495A-B9D8-65BB8D1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83F-3B06-4EB2-88B1-90FD5407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553-8177-415F-95C6-A53B0A9B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3431-EC1F-4D99-B6B0-61DD4FC476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5656320"/>
            <a:ext cx="66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реклама среднего и малого бизнеса в се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5280" y="392040"/>
            <a:ext cx="662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8000"/>
                </a:solidFill>
                <a:latin typeface="Arial"/>
              </a:rPr>
              <a:t>товары массового спроса, дорогие товары. максимальный бюджет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12536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кампани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65888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шевый бренд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71024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планирова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5245200"/>
            <a:ext cx="8137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аниченные по времени кампании, направленные на продвижение/реализацию конкретного това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266544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мент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20040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форматы банне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216216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мо-камп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70368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симально заметные ме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20696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рокие запросы либо большие списки "вложенных" за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376200"/>
            <a:ext cx="676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ошибки при планировании и проведении камп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65888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щение по широким, «нецелевым» запрос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273560"/>
            <a:ext cx="813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баннеров крупных форматов «не по назначению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227400"/>
            <a:ext cx="784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названия компании в заголовке текстовых материал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18124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ий баннер или текст под разные ключевые сл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375120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идание высоког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имиджевых форма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270504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образные рекламные предложения в одном тексте или баннер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797360"/>
            <a:ext cx="8137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резмерное сужение запросов, как следствие- низкая интенсивность камп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376200"/>
            <a:ext cx="720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работа с почтовыми рассыл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55736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5f5f"/>
                </a:solidFill>
                <a:latin typeface="Arial"/>
              </a:rPr>
              <a:t>Сервисы: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 Subscribe, Mail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11148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ие собственной рассыл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53692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мент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484020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ресные электронные листов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3687840"/>
            <a:ext cx="763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щение рекламы в рассылках тематической категор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426420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щение рекламы во всех рассылк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537372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ылки с тематических площад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376200"/>
            <a:ext cx="720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специфика рекламы в баннерных се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85104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295280"/>
            <a:ext cx="777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рогой способ охватить максимально широкую аудитор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237024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мент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64500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ргетинг по врем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709640"/>
            <a:ext cx="8137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ие баннерные сети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LE, LBN, TB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покрывают от 60 до 90% суточной аудитории Рун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81448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ографический таргет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23064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ргетинг по у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405936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тический таргет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47516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аемые задачи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4919760"/>
            <a:ext cx="777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личение посещаемости сай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5335560"/>
            <a:ext cx="813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нятие в рейтингах без использования запрещенных мет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74992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щение на нескольких тематических сайтах одноврем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616572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иджевый эффект при сравнительно низкой це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376200"/>
            <a:ext cx="720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уникальные возможности текстовых с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992240"/>
            <a:ext cx="777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тота в создании банне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368316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ее «осознанный» откл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556000"/>
            <a:ext cx="813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й траф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311940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ая стоимость размещ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424656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чественный состав участников се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811760"/>
            <a:ext cx="6913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можность тестирования коммуникативной эффективности рекламы, до запуска всей камп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5280" y="376200"/>
            <a:ext cx="648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спользование потенциала тематических площад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125360"/>
            <a:ext cx="792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стандарты - бюджетные варианты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857240"/>
            <a:ext cx="7777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тические разделы инфоресурсов (всплывающие баннеры с настройкой на раздел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491328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ылки с тематических площад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805120"/>
            <a:ext cx="756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рич-медиа по группе тематических сайтов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ed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50676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нсорство раздел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421020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тьи, новости, информе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5280" y="1125360"/>
            <a:ext cx="622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2708280"/>
            <a:ext cx="6048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ламное агентство Аг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http://www.agava.ru/a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344840"/>
            <a:ext cx="604836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талья Шам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ор по работе с клиент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8-26-77, 428-42-00 (доб. 1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shamina@agava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125360"/>
            <a:ext cx="6999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гментирование клиентов по бюджету и по типу рекламируемого продукта. особенности медиаплан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152800"/>
            <a:ext cx="622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контекстной рекламы для разных типов рекламодателей. разбор ошибок при планир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18132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ецифика рекламы в баннерных се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96396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а с почтовыми рассыл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7620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огл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748040"/>
            <a:ext cx="622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потенциала тематических площадок. нестандарты - бюджетные вариан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77692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ры рекламных камп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5532480"/>
            <a:ext cx="7416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сегментирование клиентов по бюджету и по типу рекламируемого продукта. особенности медиаплан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7620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средний бюджет: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$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33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ипичные рекламодател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380960"/>
            <a:ext cx="331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679400"/>
            <a:ext cx="806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услуг (переводы, образовательные, кадровые, юридическ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978200"/>
            <a:ext cx="806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лкие розничные продавцы (интернет-магазины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2276640"/>
            <a:ext cx="36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ламодатели из регио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3125880"/>
            <a:ext cx="3529080" cy="580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рианты планирования камп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292640"/>
            <a:ext cx="2521080" cy="89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текстная рекла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имулирования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ое присутств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0560" y="4292640"/>
            <a:ext cx="2521080" cy="1414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клама в баннерных се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ксимальный охв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на узнавае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овые 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292640"/>
            <a:ext cx="2521080" cy="113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текст + баннерные сети или рассыл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упатели, готовые к покуп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нциальные кли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7620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средний бюджет: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$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33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ипичные рекламодател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380960"/>
            <a:ext cx="33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кли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679400"/>
            <a:ext cx="806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ительские товары (мебель, сантехника, крупная бытовая техник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978200"/>
            <a:ext cx="806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матизация бизне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2276640"/>
            <a:ext cx="360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графия, рекла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3125880"/>
            <a:ext cx="3529080" cy="580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рианты планирования камп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292640"/>
            <a:ext cx="3529080" cy="1623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екстная реклама, специализированные сайты, тематические разделы рейтингов и каталогов, тематические рассыл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действие на заинтересованную аудиторию - специалистов в определенн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4292640"/>
            <a:ext cx="3529080" cy="1623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2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ннерные сети (часто тематические), рассылки по широким группам подписчиков, разделы новостных ресурсов, тематические площад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шевый брендинг, информационная поддержка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7620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средний бюджет: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$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33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ипичные рекламодател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380960"/>
            <a:ext cx="334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диле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679400"/>
            <a:ext cx="396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авцы и производители ок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978200"/>
            <a:ext cx="428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гентства и объекты недвижим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1679400"/>
            <a:ext cx="360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ьютерные иг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3125880"/>
            <a:ext cx="3529080" cy="580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рианты планирования камп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292640"/>
            <a:ext cx="3529080" cy="134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хват широкой аудитор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нескольких баннерных сетей одновременно, реклама в ICQ, реклама во всех рассылках Subscribe и MailList, главные страницы "раскрученных" новост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4292640"/>
            <a:ext cx="3529080" cy="134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шевый бренд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екст по расширенным запросам, использование информационных ресурсов по разделам, популярные специализированные площадки, спонсорство разделов, стат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320920"/>
            <a:ext cx="619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бильные телефоны, dvd, компьютеры и техн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1380960"/>
            <a:ext cx="43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1978200"/>
            <a:ext cx="360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выборные камп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71640" y="5532480"/>
            <a:ext cx="5616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использование контекстной рекламы для разных типов рекламодате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37620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2B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-сектор, малый бизнес. ограниченный 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12536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кампани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79064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личение объема прода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36104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планирова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5027760"/>
            <a:ext cx="622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весь год, с равномерным расходованием в течение года (с поправкой на сезонност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09096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количество словосочетаний с различными "добавками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42568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мент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72600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рогие, текстовые форма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8360" y="6769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37620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овары и услуги,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B2C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. средний 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12536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кампани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57464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ая информационная поддержка прода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37364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планирова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4824360"/>
            <a:ext cx="8137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весь год, часто под конкретные рекламные кампании (2-3 в год по 1-3 месяца кажда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692280"/>
            <a:ext cx="8748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16320"/>
            <a:ext cx="622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мент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28788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нне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1995480"/>
            <a:ext cx="622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вижение новых продук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2867040"/>
            <a:ext cx="748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кст под шапкой поис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489640"/>
            <a:ext cx="813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нообразная рекламная актив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3708360"/>
            <a:ext cx="748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количество рекламных материалов, отдельные тексты или баннеры под каждый проду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8360" y="6742080"/>
            <a:ext cx="755640" cy="1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9:02:16Z</dcterms:created>
  <dc:creator>nata</dc:creator>
  <dc:description/>
  <dc:language>en-US</dc:language>
  <cp:lastModifiedBy>nata</cp:lastModifiedBy>
  <dcterms:modified xsi:type="dcterms:W3CDTF">2006-03-23T11:13:50Z</dcterms:modified>
  <cp:revision>145</cp:revision>
  <dc:subject/>
  <dc:title>Агава</dc:title>
</cp:coreProperties>
</file>