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32.wmf" ContentType="image/x-wmf"/>
  <Override PartName="/ppt/media/image28.png" ContentType="image/png"/>
  <Override PartName="/ppt/media/image8.jpeg" ContentType="image/jpeg"/>
  <Override PartName="/ppt/media/image30.png" ContentType="image/png"/>
  <Override PartName="/ppt/media/image27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4.png" ContentType="image/png"/>
  <Override PartName="/ppt/media/image34.png" ContentType="image/png"/>
  <Override PartName="/ppt/media/image6.png" ContentType="image/png"/>
  <Override PartName="/ppt/media/image11.png" ContentType="image/png"/>
  <Override PartName="/ppt/media/image5.wmf" ContentType="image/x-wmf"/>
  <Override PartName="/ppt/media/image10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2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3390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700080"/>
            <a:ext cx="83390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40694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06720" y="914040"/>
            <a:ext cx="40694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700080"/>
            <a:ext cx="40694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06720" y="3700080"/>
            <a:ext cx="40694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268488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53040" y="914040"/>
            <a:ext cx="268488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2560" y="914040"/>
            <a:ext cx="268488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700080"/>
            <a:ext cx="268488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53040" y="3700080"/>
            <a:ext cx="268488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2560" y="3700080"/>
            <a:ext cx="268488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520" y="914040"/>
            <a:ext cx="83390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3390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406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6720" y="914040"/>
            <a:ext cx="406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15840"/>
            <a:ext cx="883944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40694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6720" y="914040"/>
            <a:ext cx="406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3700080"/>
            <a:ext cx="40694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914040"/>
            <a:ext cx="83390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406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06720" y="914040"/>
            <a:ext cx="40694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06720" y="3700080"/>
            <a:ext cx="40694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40694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6720" y="914040"/>
            <a:ext cx="40694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700080"/>
            <a:ext cx="83390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3390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520" y="3700080"/>
            <a:ext cx="83390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40694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06720" y="914040"/>
            <a:ext cx="40694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3700080"/>
            <a:ext cx="40694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06720" y="3700080"/>
            <a:ext cx="40694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268488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3040" y="914040"/>
            <a:ext cx="268488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2560" y="914040"/>
            <a:ext cx="268488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520" y="3700080"/>
            <a:ext cx="268488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3040" y="3700080"/>
            <a:ext cx="268488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2560" y="3700080"/>
            <a:ext cx="268488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3390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406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06720" y="914040"/>
            <a:ext cx="406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15840"/>
            <a:ext cx="883944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40694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6720" y="914040"/>
            <a:ext cx="406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700080"/>
            <a:ext cx="40694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406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6720" y="914040"/>
            <a:ext cx="40694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06720" y="3700080"/>
            <a:ext cx="40694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40694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06720" y="914040"/>
            <a:ext cx="40694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700080"/>
            <a:ext cx="8339040" cy="25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914040"/>
            <a:ext cx="83390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3" marL="1598760" indent="-227160">
              <a:spcBef>
                <a:spcPts val="700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250040" y="6362640"/>
            <a:ext cx="1893960" cy="3301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382680"/>
            <a:ext cx="568440" cy="6475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589800" y="6647040"/>
            <a:ext cx="26035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online marketing solu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42900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323800"/>
            <a:ext cx="7772400" cy="17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76840" y="127080"/>
            <a:ext cx="3429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О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nline marketing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832440"/>
            <a:ext cx="91440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76440" y="1392120"/>
            <a:ext cx="3171600" cy="554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3333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25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25"/>
              </a:spcBef>
              <a:buClr>
                <a:srgbClr val="333333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25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25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hyperlink" Target="http://subscribe.ru/" TargetMode="External"/><Relationship Id="rId9" Type="http://schemas.openxmlformats.org/officeDocument/2006/relationships/image" Target="../media/image28.png"/><Relationship Id="rId10" Type="http://schemas.openxmlformats.org/officeDocument/2006/relationships/hyperlink" Target="http://www.icontext.ru/?l=R&amp;PHPSESSID=b25d9b4b9dce085b2dc6837460d27202" TargetMode="External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wmf"/><Relationship Id="rId15" Type="http://schemas.openxmlformats.org/officeDocument/2006/relationships/image" Target="../media/image33.png"/><Relationship Id="rId1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hyperlink" Target="mailto:anch@adwatch.ru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7925040" cy="17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d4d4d"/>
                </a:solidFill>
                <a:latin typeface="Arial Black"/>
              </a:rPr>
              <a:t>Определение стратегии рекламных коммуникаций для различных продуктов и целевых групп</a:t>
            </a:r>
            <a:endParaRPr b="0" lang="en-US" sz="3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80680" y="4797360"/>
            <a:ext cx="57913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Андрей Чернышов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Директор по развитию, </a:t>
            </a:r>
            <a:r>
              <a:rPr b="1" lang="en-US" sz="2000" spc="-1" strike="noStrike">
                <a:solidFill>
                  <a:srgbClr val="333333"/>
                </a:solidFill>
                <a:latin typeface="Arial Narrow"/>
              </a:rPr>
              <a:t>AdWatch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Black"/>
              </a:rPr>
              <a:t>В заключении – об 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dWa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666520" y="980640"/>
            <a:ext cx="5937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Narrow"/>
              </a:rPr>
              <a:t>Медиа сервис</a:t>
            </a:r>
            <a:r>
              <a:rPr b="1" lang="en-US" sz="1600" spc="-1" strike="noStrike">
                <a:solidFill>
                  <a:srgbClr val="333333"/>
                </a:solidFill>
                <a:latin typeface="Arial Narrow"/>
              </a:rPr>
              <a:t> -</a:t>
            </a:r>
            <a:r>
              <a:rPr b="0" lang="ru-RU" sz="1600" spc="-1" strike="noStrike">
                <a:solidFill>
                  <a:srgbClr val="333333"/>
                </a:solidFill>
                <a:latin typeface="Arial Narrow"/>
              </a:rPr>
              <a:t>  разработка долгосрочных рекламных стратегий, медиапланирование</a:t>
            </a:r>
            <a:r>
              <a:rPr b="0" lang="en-US" sz="1600" spc="-1" strike="noStrike">
                <a:solidFill>
                  <a:srgbClr val="333333"/>
                </a:solidFill>
                <a:latin typeface="Arial Narrow"/>
              </a:rPr>
              <a:t>, </a:t>
            </a:r>
            <a:r>
              <a:rPr b="0" lang="ru-RU" sz="1600" spc="-1" strike="noStrike">
                <a:solidFill>
                  <a:srgbClr val="333333"/>
                </a:solidFill>
                <a:latin typeface="Arial Narrow"/>
              </a:rPr>
              <a:t>внедрение рекламных кампаний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Narrow"/>
              </a:rPr>
              <a:t>Медиа баинг </a:t>
            </a:r>
            <a:r>
              <a:rPr b="0" lang="ru-RU" sz="1600" spc="-1" strike="noStrike">
                <a:solidFill>
                  <a:srgbClr val="333333"/>
                </a:solidFill>
                <a:latin typeface="Arial Narrow"/>
              </a:rPr>
              <a:t>– закупка и размещение рекламы на более чем 150 интернет-сайтах, а также эксклюзивная продажа ряда рекламных мест на ведущих ресурсах Рунета (</a:t>
            </a:r>
            <a:r>
              <a:rPr b="0" lang="en-US" sz="1600" spc="-1" strike="noStrike">
                <a:solidFill>
                  <a:srgbClr val="333333"/>
                </a:solidFill>
                <a:latin typeface="Arial Narrow"/>
              </a:rPr>
              <a:t>Rambler-</a:t>
            </a:r>
            <a:r>
              <a:rPr b="0" lang="ru-RU" sz="1600" spc="-1" strike="noStrike">
                <a:solidFill>
                  <a:srgbClr val="333333"/>
                </a:solidFill>
                <a:latin typeface="Arial Narrow"/>
              </a:rPr>
              <a:t>Почта, </a:t>
            </a:r>
            <a:r>
              <a:rPr b="0" lang="en-US" sz="1600" spc="-1" strike="noStrike">
                <a:solidFill>
                  <a:srgbClr val="333333"/>
                </a:solidFill>
                <a:latin typeface="Arial Narrow"/>
              </a:rPr>
              <a:t>Gazeta.ru, Gismeteo.ru, Eurosport.ru, Auto.ru </a:t>
            </a:r>
            <a:r>
              <a:rPr b="0" lang="ru-RU" sz="1600" spc="-1" strike="noStrike">
                <a:solidFill>
                  <a:srgbClr val="333333"/>
                </a:solidFill>
                <a:latin typeface="Arial Narrow"/>
              </a:rPr>
              <a:t>и др.)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Narrow"/>
              </a:rPr>
              <a:t>Технология управления рекламой </a:t>
            </a:r>
            <a:r>
              <a:rPr b="1" lang="en-US" sz="1600" spc="-1" strike="noStrike">
                <a:solidFill>
                  <a:srgbClr val="333333"/>
                </a:solidFill>
                <a:latin typeface="Arial Narrow"/>
              </a:rPr>
              <a:t>AdWatch</a:t>
            </a:r>
            <a:r>
              <a:rPr b="1" lang="ru-RU" sz="16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 Narrow"/>
              </a:rPr>
              <a:t>AdServer ®</a:t>
            </a:r>
            <a:r>
              <a:rPr b="0" lang="ru-RU" sz="1600" spc="-1" strike="noStrike">
                <a:solidFill>
                  <a:srgbClr val="333333"/>
                </a:solidFill>
                <a:latin typeface="Arial Narrow"/>
              </a:rPr>
              <a:t>, используемая на более чем 150 рекламных площадках российского интернета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Narrow"/>
              </a:rPr>
              <a:t>Дизайн и креатив</a:t>
            </a:r>
            <a:r>
              <a:rPr b="0" lang="ru-RU" sz="1600" spc="-1" strike="noStrike">
                <a:solidFill>
                  <a:srgbClr val="333333"/>
                </a:solidFill>
                <a:latin typeface="Arial Narrow"/>
              </a:rPr>
              <a:t> - разработка креативных решений для рекламных кампаний,  Flash-презентации и multimedia-ролики, сайты, мультфильмы и любые другие необходимые решения web-дизайна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Narrow"/>
              </a:rPr>
              <a:t>Нестандартные рекламные решения</a:t>
            </a:r>
            <a:r>
              <a:rPr b="0" lang="ru-RU" sz="1600" spc="-1" strike="noStrike">
                <a:solidFill>
                  <a:srgbClr val="333333"/>
                </a:solidFill>
                <a:latin typeface="Arial Narrow"/>
              </a:rPr>
              <a:t> - агентство </a:t>
            </a:r>
            <a:r>
              <a:rPr b="0" lang="en-US" sz="1600" spc="-1" strike="noStrike">
                <a:solidFill>
                  <a:srgbClr val="333333"/>
                </a:solidFill>
                <a:latin typeface="Arial Narrow"/>
              </a:rPr>
              <a:t>BTW, </a:t>
            </a:r>
            <a:r>
              <a:rPr b="0" lang="ru-RU" sz="1600" spc="-1" strike="noStrike">
                <a:solidFill>
                  <a:srgbClr val="333333"/>
                </a:solidFill>
                <a:latin typeface="Arial Narrow"/>
              </a:rPr>
              <a:t>входящее в состав группы компаний </a:t>
            </a:r>
            <a:r>
              <a:rPr b="0" lang="en-US" sz="1600" spc="-1" strike="noStrike">
                <a:solidFill>
                  <a:srgbClr val="333333"/>
                </a:solidFill>
                <a:latin typeface="Arial Narrow"/>
              </a:rPr>
              <a:t>AdWatch, </a:t>
            </a:r>
            <a:r>
              <a:rPr b="0" lang="ru-RU" sz="1600" spc="-1" strike="noStrike">
                <a:solidFill>
                  <a:srgbClr val="333333"/>
                </a:solidFill>
                <a:latin typeface="Arial Narrow"/>
              </a:rPr>
              <a:t>специализируется на </a:t>
            </a:r>
            <a:r>
              <a:rPr b="0" lang="en-US" sz="1600" spc="-1" strike="noStrike">
                <a:solidFill>
                  <a:srgbClr val="333333"/>
                </a:solidFill>
                <a:latin typeface="Arial Narrow"/>
              </a:rPr>
              <a:t>online BTL </a:t>
            </a:r>
            <a:r>
              <a:rPr b="0" lang="ru-RU" sz="1600" spc="-1" strike="noStrike">
                <a:solidFill>
                  <a:srgbClr val="333333"/>
                </a:solidFill>
                <a:latin typeface="Arial Narrow"/>
              </a:rPr>
              <a:t>и </a:t>
            </a:r>
            <a:r>
              <a:rPr b="0" lang="en-US" sz="1600" spc="-1" strike="noStrike">
                <a:solidFill>
                  <a:srgbClr val="333333"/>
                </a:solidFill>
                <a:latin typeface="Arial Narrow"/>
              </a:rPr>
              <a:t>PR </a:t>
            </a:r>
            <a:r>
              <a:rPr b="0" lang="ru-RU" sz="1600" spc="-1" strike="noStrike">
                <a:solidFill>
                  <a:srgbClr val="333333"/>
                </a:solidFill>
                <a:latin typeface="Arial Narrow"/>
              </a:rPr>
              <a:t>и разработке</a:t>
            </a:r>
            <a:r>
              <a:rPr b="0" lang="en-US" sz="16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 Narrow"/>
              </a:rPr>
              <a:t>нестандартных рекламных решений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Narrow"/>
              </a:rPr>
              <a:t>Наши партнеры, подрядчики и друзья – спасибо им за совместную работу и поддержку: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Narrow"/>
              </a:rPr>
              <a:t>                                             </a:t>
            </a:r>
            <a:r>
              <a:rPr b="1" lang="ru-RU" sz="1600" spc="-1" strike="noStrike">
                <a:solidFill>
                  <a:srgbClr val="333333"/>
                </a:solidFill>
                <a:latin typeface="Arial Narrow"/>
              </a:rPr>
              <a:t>.. и многие другие</a:t>
            </a:r>
            <a:endParaRPr b="0" lang="en-US" sz="16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65280" y="973080"/>
            <a:ext cx="1674720" cy="2923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239840" y="3957480"/>
            <a:ext cx="1171440" cy="787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736560" y="1697040"/>
            <a:ext cx="1674720" cy="291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65280" y="2492280"/>
            <a:ext cx="1674720" cy="2923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684360" y="3352680"/>
            <a:ext cx="1674720" cy="292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Rambler"/>
          <p:cNvPicPr/>
          <p:nvPr/>
        </p:nvPicPr>
        <p:blipFill>
          <a:blip r:embed="rId6"/>
          <a:stretch/>
        </p:blipFill>
        <p:spPr>
          <a:xfrm>
            <a:off x="3708360" y="5661000"/>
            <a:ext cx="774720" cy="160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4564080" y="5661000"/>
            <a:ext cx="944640" cy="190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948360" y="5661000"/>
            <a:ext cx="1368720" cy="2588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059280" y="6021360"/>
            <a:ext cx="895320" cy="284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5580000" y="5661000"/>
            <a:ext cx="1330560" cy="184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"/>
          <a:stretch/>
        </p:blipFill>
        <p:spPr>
          <a:xfrm>
            <a:off x="4067280" y="5877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4"/>
          <a:stretch/>
        </p:blipFill>
        <p:spPr>
          <a:xfrm>
            <a:off x="1258920" y="50133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5"/>
          <a:stretch/>
        </p:blipFill>
        <p:spPr>
          <a:xfrm>
            <a:off x="3059280" y="5602320"/>
            <a:ext cx="504720" cy="262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1116000" y="2338560"/>
          <a:ext cx="2592360" cy="23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338560"/>
                    <a:ext cx="2592360" cy="23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140360" y="981000"/>
            <a:ext cx="475128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d4d4d"/>
                </a:solidFill>
                <a:latin typeface="Arial Black"/>
              </a:rPr>
              <a:t>Спасибо за внимание!</a:t>
            </a:r>
            <a:br>
              <a:rPr sz="26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1800" spc="-1" strike="noStrike">
                <a:solidFill>
                  <a:srgbClr val="4d4d4d"/>
                </a:solidFill>
                <a:latin typeface="Arial Black"/>
              </a:rPr>
              <a:t>Андрей Чернышов</a:t>
            </a:r>
            <a:br>
              <a:rPr sz="1800"/>
            </a:br>
            <a:r>
              <a:rPr b="0" lang="ru-RU" sz="1800" spc="-1" strike="noStrike">
                <a:solidFill>
                  <a:srgbClr val="4d4d4d"/>
                </a:solidFill>
                <a:latin typeface="Arial Black"/>
              </a:rPr>
              <a:t>Директор по развитию</a:t>
            </a:r>
            <a:br>
              <a:rPr sz="1800"/>
            </a:br>
            <a:r>
              <a:rPr b="0" lang="en-US" sz="1800" spc="-1" strike="noStrike" u="sng">
                <a:solidFill>
                  <a:srgbClr val="3366ff"/>
                </a:solidFill>
                <a:uFillTx/>
                <a:latin typeface="Arial Black"/>
                <a:hlinkClick r:id="rId3"/>
              </a:rPr>
              <a:t>anch@adwatch.ru</a:t>
            </a:r>
            <a:r>
              <a:rPr b="0" lang="en-US" sz="1800" spc="-1" strike="noStrike">
                <a:solidFill>
                  <a:srgbClr val="4d4d4d"/>
                </a:solidFill>
                <a:latin typeface="Arial Black"/>
              </a:rPr>
              <a:t> </a:t>
            </a:r>
            <a:br>
              <a:rPr sz="12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2000"/>
            </a:br>
            <a:r>
              <a:rPr b="0" lang="en-US" sz="1500" spc="-1" strike="noStrike">
                <a:solidFill>
                  <a:srgbClr val="4d4d4d"/>
                </a:solidFill>
                <a:latin typeface="Arial Black"/>
              </a:rPr>
              <a:t>AdWatch</a:t>
            </a:r>
            <a:br>
              <a:rPr sz="1900"/>
            </a:br>
            <a:r>
              <a:rPr b="0" lang="en-US" sz="1000" spc="-1" strike="noStrike">
                <a:solidFill>
                  <a:srgbClr val="4d4d4d"/>
                </a:solidFill>
                <a:latin typeface="Arial Black"/>
              </a:rPr>
              <a:t>Online Marketing Solutions </a:t>
            </a:r>
            <a:br>
              <a:rPr sz="1000"/>
            </a:br>
            <a:r>
              <a:rPr b="1" lang="ru-RU" sz="1300" spc="-1" strike="noStrike">
                <a:solidFill>
                  <a:srgbClr val="4d4d4d"/>
                </a:solidFill>
                <a:latin typeface="Arial Narrow"/>
              </a:rPr>
              <a:t>Россия, Москва 107120,</a:t>
            </a:r>
            <a:br>
              <a:rPr sz="1300"/>
            </a:br>
            <a:r>
              <a:rPr b="1" lang="ru-RU" sz="1300" spc="-1" strike="noStrike">
                <a:solidFill>
                  <a:srgbClr val="4d4d4d"/>
                </a:solidFill>
                <a:latin typeface="Arial Narrow"/>
              </a:rPr>
              <a:t>Съезжинский переулок, </a:t>
            </a:r>
            <a:r>
              <a:rPr b="1" lang="en-US" sz="1300" spc="-1" strike="noStrike">
                <a:solidFill>
                  <a:srgbClr val="4d4d4d"/>
                </a:solidFill>
                <a:latin typeface="Arial Narrow"/>
              </a:rPr>
              <a:t>8/1</a:t>
            </a:r>
            <a:br>
              <a:rPr sz="1300"/>
            </a:br>
            <a:r>
              <a:rPr b="1" lang="ru-RU" sz="1300" spc="-1" strike="noStrike">
                <a:solidFill>
                  <a:srgbClr val="4d4d4d"/>
                </a:solidFill>
                <a:latin typeface="Arial Narrow"/>
              </a:rPr>
              <a:t>Тел</a:t>
            </a:r>
            <a:r>
              <a:rPr b="1" lang="en-US" sz="1300" spc="-1" strike="noStrike">
                <a:solidFill>
                  <a:srgbClr val="4d4d4d"/>
                </a:solidFill>
                <a:latin typeface="Arial Narrow"/>
              </a:rPr>
              <a:t>/</a:t>
            </a:r>
            <a:r>
              <a:rPr b="1" lang="ru-RU" sz="1300" spc="-1" strike="noStrike">
                <a:solidFill>
                  <a:srgbClr val="4d4d4d"/>
                </a:solidFill>
                <a:latin typeface="Arial Narrow"/>
              </a:rPr>
              <a:t>факс</a:t>
            </a:r>
            <a:r>
              <a:rPr b="1" lang="en-US" sz="1300" spc="-1" strike="noStrike">
                <a:solidFill>
                  <a:srgbClr val="4d4d4d"/>
                </a:solidFill>
                <a:latin typeface="Arial Narrow"/>
              </a:rPr>
              <a:t>: +7</a:t>
            </a:r>
            <a:r>
              <a:rPr b="1" lang="ru-RU" sz="13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1" lang="en-US" sz="1300" spc="-1" strike="noStrike">
                <a:solidFill>
                  <a:srgbClr val="4d4d4d"/>
                </a:solidFill>
                <a:latin typeface="Arial Narrow"/>
              </a:rPr>
              <a:t>(</a:t>
            </a:r>
            <a:r>
              <a:rPr b="1" lang="ru-RU" sz="1300" spc="-1" strike="noStrike">
                <a:solidFill>
                  <a:srgbClr val="4d4d4d"/>
                </a:solidFill>
                <a:latin typeface="Arial Narrow"/>
              </a:rPr>
              <a:t>4</a:t>
            </a:r>
            <a:r>
              <a:rPr b="1" lang="en-US" sz="1300" spc="-1" strike="noStrike">
                <a:solidFill>
                  <a:srgbClr val="4d4d4d"/>
                </a:solidFill>
                <a:latin typeface="Arial Narrow"/>
              </a:rPr>
              <a:t>95)</a:t>
            </a:r>
            <a:r>
              <a:rPr b="1" lang="ru-RU" sz="13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1" lang="en-US" sz="1300" spc="-1" strike="noStrike">
                <a:solidFill>
                  <a:srgbClr val="4d4d4d"/>
                </a:solidFill>
                <a:latin typeface="Arial Narrow"/>
              </a:rPr>
              <a:t>232-0090, 232-2022</a:t>
            </a:r>
            <a:br>
              <a:rPr sz="1300"/>
            </a:br>
            <a:r>
              <a:rPr b="1" lang="en-US" sz="1300" spc="-1" strike="noStrike" u="sng">
                <a:solidFill>
                  <a:srgbClr val="0033cc"/>
                </a:solidFill>
                <a:uFillTx/>
                <a:latin typeface="Arial Narrow"/>
              </a:rPr>
              <a:t>http://www.adwatch.ru</a:t>
            </a:r>
            <a:r>
              <a:rPr b="0" lang="en-US" sz="13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Black"/>
              </a:rPr>
              <a:t>Советы профессионалов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132000" y="2565360"/>
            <a:ext cx="885960" cy="194472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1114560" y="907920"/>
            <a:ext cx="2160360" cy="1748520"/>
            <a:chOff x="1114560" y="907920"/>
            <a:chExt cx="2160360" cy="174852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185840" y="907920"/>
              <a:ext cx="1942560" cy="14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114560" y="2349360"/>
              <a:ext cx="21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делать сайт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635280" y="873000"/>
            <a:ext cx="2448000" cy="1766160"/>
            <a:chOff x="3635280" y="873000"/>
            <a:chExt cx="2448000" cy="176616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3888000" y="873000"/>
              <a:ext cx="197964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635280" y="2332080"/>
              <a:ext cx="244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исплейная реклама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211640" y="2746440"/>
            <a:ext cx="2305080" cy="1837440"/>
            <a:chOff x="4211640" y="2746440"/>
            <a:chExt cx="2305080" cy="183744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4356360" y="2746440"/>
              <a:ext cx="1944360" cy="15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211640" y="4276800"/>
              <a:ext cx="230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исковая реклама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42920" y="4653000"/>
            <a:ext cx="2304720" cy="1711800"/>
            <a:chOff x="1042920" y="4653000"/>
            <a:chExt cx="2304720" cy="1711800"/>
          </a:xfrm>
        </p:grpSpPr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1330200" y="4653000"/>
              <a:ext cx="1800000" cy="14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042920" y="6057720"/>
              <a:ext cx="230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клама в играх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490920" y="4653000"/>
            <a:ext cx="2305080" cy="1746720"/>
            <a:chOff x="3490920" y="4653000"/>
            <a:chExt cx="2305080" cy="1746720"/>
          </a:xfrm>
        </p:grpSpPr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3780000" y="4653000"/>
              <a:ext cx="1871640" cy="14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490920" y="6092640"/>
              <a:ext cx="230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оздать рассылку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68360" y="2781360"/>
            <a:ext cx="2305080" cy="1635840"/>
            <a:chOff x="468360" y="2781360"/>
            <a:chExt cx="2305080" cy="1635840"/>
          </a:xfrm>
        </p:grpSpPr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971640" y="2781360"/>
              <a:ext cx="12542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68360" y="4110120"/>
              <a:ext cx="230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зослать ролик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588000" y="981000"/>
            <a:ext cx="2305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се средства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хороши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59640" y="2133720"/>
            <a:ext cx="230508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.. для разных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целей и для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работы с разными целевыми группами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88000" y="4581360"/>
            <a:ext cx="23050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Arial"/>
              </a:rPr>
              <a:t>Выбор средств и является стратегией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Black"/>
              </a:rPr>
              <a:t>Коммуникационное агентство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070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Определяет, исходя из анализа задач и целевой аудитории, какие средства нужно использовать и каких специалистов привлекать.</a:t>
            </a:r>
            <a:br>
              <a:rPr sz="2000"/>
            </a:b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От чего хочется лечиться и чего добиться?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 Narrow"/>
              </a:rPr>
              <a:t>Кто целевая аудитория (соц.дем, модель потребления)?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 Narrow"/>
              </a:rPr>
              <a:t>Какой процент целевой аудитории в регионе пользуется интернетом?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 Narrow"/>
              </a:rPr>
              <a:t>Каков процент целевой аудитории среди всей интернет-аудитории?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 Narrow"/>
              </a:rPr>
              <a:t>Как она себя ведёт и что она там делает? Цель посещения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Arial Narrow"/>
              </a:rPr>
              <a:t>интернета / ресурсов, готовность воспринимать рекламу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Arial Narrow"/>
              </a:rPr>
              <a:t>в определенных форматах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Как хочется лечиться?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 Narrow"/>
              </a:rPr>
              <a:t>размещение рекламы с целью ассоциации бренда с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Arial Narrow"/>
              </a:rPr>
              <a:t>определенными жизненными ценностями,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Arial Narrow"/>
              </a:rPr>
              <a:t>позиционирование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 Narrow"/>
              </a:rPr>
              <a:t>Стоимость контакта, стоимость действия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Как лечатся другие пациенты?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 Narrow"/>
              </a:rPr>
              <a:t>Конкурентный анализ, клаттер в категории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234200" y="3284640"/>
            <a:ext cx="1730520" cy="3014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56360" y="1628640"/>
            <a:ext cx="244800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33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Arial Narrow"/>
              </a:rPr>
              <a:t>Известно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Arial Narrow"/>
              </a:rPr>
              <a:t>a pri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Black"/>
              </a:rPr>
              <a:t>Целевая аудитория и интернет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286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 Narrow"/>
              </a:rPr>
              <a:t>Первоначальная оценка – а стоит ли вообще использовать интернет для рекламы данного продукта / услуги?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% целевой аудитории региона, пользующийся интернетом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6381720"/>
            <a:ext cx="40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* Источник: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NS Gallup Media M-Index 2005/2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, Росс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00000" y="3130560"/>
            <a:ext cx="7631280" cy="2314440"/>
            <a:chOff x="900000" y="3130560"/>
            <a:chExt cx="7631280" cy="231444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900000" y="3141720"/>
              <a:ext cx="3267360" cy="22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4788000" y="3130560"/>
              <a:ext cx="3743280" cy="2314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Black"/>
              </a:rPr>
              <a:t>Целевая аудитория и интернет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5106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Вторая оценка – насколько массовой или, наоборот, точечной должна быть коммуникация в интернете?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% целевой аудитории среди интернет-пользователей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 Narrow"/>
              </a:rPr>
              <a:t>Affinity index (AI, </a:t>
            </a: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индекс соответствия)</a:t>
            </a:r>
            <a:r>
              <a:rPr b="1" lang="en-US" sz="2000" spc="-1" strike="noStrike">
                <a:solidFill>
                  <a:srgbClr val="333333"/>
                </a:solidFill>
                <a:latin typeface="Arial Narrow"/>
              </a:rPr>
              <a:t> - </a:t>
            </a: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отношение доли представителей какой-либо группы к доле представителей этой группы в населении в целом. Среднее значение индекса равняется 100. Чем больше значение индекса, тем больше та или иная группа представлена в выборке. Пример: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Arial Narrow"/>
              </a:rPr>
              <a:t>А</a:t>
            </a:r>
            <a:r>
              <a:rPr b="1" i="1" lang="en-US" sz="2000" spc="-1" strike="noStrike">
                <a:solidFill>
                  <a:srgbClr val="333333"/>
                </a:solidFill>
                <a:latin typeface="Arial Narrow"/>
              </a:rPr>
              <a:t>I </a:t>
            </a:r>
            <a:r>
              <a:rPr b="1" i="1" lang="ru-RU" sz="2000" spc="-1" strike="noStrike">
                <a:solidFill>
                  <a:srgbClr val="333333"/>
                </a:solidFill>
                <a:latin typeface="Arial Narrow"/>
              </a:rPr>
              <a:t>пользователей интернета по владению  иномарками  = 16% / 7% * 100 =  = 228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6381720"/>
            <a:ext cx="40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* Источник: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NS Gallup Media M-Index 2005/2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, Росс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724360" y="836640"/>
            <a:ext cx="3181680" cy="2581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651640" y="3575160"/>
            <a:ext cx="3276360" cy="2733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Black"/>
              </a:rPr>
              <a:t>Стоимость и позиционирование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992160"/>
            <a:ext cx="4106880" cy="3732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4681440" cy="374328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4427640" y="2133720"/>
            <a:ext cx="4321080" cy="3880080"/>
            <a:chOff x="4427640" y="2133720"/>
            <a:chExt cx="4321080" cy="3880080"/>
          </a:xfrm>
        </p:grpSpPr>
        <p:sp>
          <p:nvSpPr>
            <p:cNvPr id="131" name=""/>
            <p:cNvSpPr/>
            <p:nvPr/>
          </p:nvSpPr>
          <p:spPr>
            <a:xfrm>
              <a:off x="5867280" y="2133720"/>
              <a:ext cx="1873440" cy="358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27640" y="4869000"/>
              <a:ext cx="432108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300" spc="-1" strike="noStrike">
                  <a:solidFill>
                    <a:srgbClr val="ff0000"/>
                  </a:solidFill>
                  <a:latin typeface="Arial"/>
                </a:rPr>
                <a:t>Стоимость контакта,</a:t>
              </a:r>
              <a:br>
                <a:rPr sz="2300"/>
              </a:br>
              <a:r>
                <a:rPr b="1" i="1" lang="ru-RU" sz="2300" spc="-1" strike="noStrike">
                  <a:solidFill>
                    <a:srgbClr val="ff0000"/>
                  </a:solidFill>
                  <a:latin typeface="Arial"/>
                </a:rPr>
                <a:t>низкая стоимость</a:t>
              </a:r>
              <a:br>
                <a:rPr sz="2300"/>
              </a:br>
              <a:r>
                <a:rPr b="1" i="1" lang="ru-RU" sz="2300" spc="-1" strike="noStrike">
                  <a:solidFill>
                    <a:srgbClr val="ff0000"/>
                  </a:solidFill>
                  <a:latin typeface="Arial"/>
                </a:rPr>
                <a:t>действия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95280" y="1844640"/>
            <a:ext cx="4321080" cy="4536720"/>
            <a:chOff x="395280" y="1844640"/>
            <a:chExt cx="4321080" cy="4536720"/>
          </a:xfrm>
        </p:grpSpPr>
        <p:sp>
          <p:nvSpPr>
            <p:cNvPr id="134" name=""/>
            <p:cNvSpPr/>
            <p:nvPr/>
          </p:nvSpPr>
          <p:spPr>
            <a:xfrm>
              <a:off x="3348000" y="2781360"/>
              <a:ext cx="1008000" cy="1655640"/>
            </a:xfrm>
            <a:prstGeom prst="rect">
              <a:avLst/>
            </a:prstGeom>
            <a:noFill/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5280" y="4886280"/>
              <a:ext cx="4321080" cy="14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300" spc="-1" strike="noStrike">
                  <a:solidFill>
                    <a:srgbClr val="990099"/>
                  </a:solidFill>
                  <a:latin typeface="Arial"/>
                </a:rPr>
                <a:t>Позиционирование,</a:t>
              </a:r>
              <a:br>
                <a:rPr sz="2300"/>
              </a:br>
              <a:r>
                <a:rPr b="1" i="1" lang="ru-RU" sz="2300" spc="-1" strike="noStrike">
                  <a:solidFill>
                    <a:srgbClr val="990099"/>
                  </a:solidFill>
                  <a:latin typeface="Arial"/>
                </a:rPr>
                <a:t>ассоциация бренда с аналогичными дорогими брендами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08000" y="1844640"/>
              <a:ext cx="1511640" cy="504720"/>
            </a:xfrm>
            <a:prstGeom prst="rect">
              <a:avLst/>
            </a:prstGeom>
            <a:noFill/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Black"/>
              </a:rPr>
              <a:t>Конкурентный анализ, клаттер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446960" cy="5353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Black"/>
              </a:rPr>
              <a:t>Выбор стратегии в результате анализа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82480" y="3357720"/>
            <a:ext cx="1428840" cy="952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268360" y="3357720"/>
            <a:ext cx="1428840" cy="952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364000" y="3236760"/>
            <a:ext cx="1584360" cy="1055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328840" y="97956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48360" y="98100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236000" y="907920"/>
            <a:ext cx="1439640" cy="5113440"/>
            <a:chOff x="7236000" y="907920"/>
            <a:chExt cx="1439640" cy="5113440"/>
          </a:xfrm>
        </p:grpSpPr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7667640" y="3268800"/>
              <a:ext cx="100800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236000" y="907920"/>
              <a:ext cx="0" cy="511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3648240" y="3340080"/>
            <a:ext cx="1428480" cy="952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1080" y="8366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ладельцы (В)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ечеств. а/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Жигулей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43320" y="836640"/>
            <a:ext cx="259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ладельцы (В)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омарок среднего класс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на примере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uge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33800" y="836640"/>
            <a:ext cx="2590920" cy="25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ладельцы (В)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слюзивных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омарок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л-во В-ИП =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%В среди ИП =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%ИП среди В =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I =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высокий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05440" y="836640"/>
            <a:ext cx="2590920" cy="25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ладельцы (В)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кутеров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л-во В-ИП =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%В среди ИП =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%ИП среди В =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I =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высо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436572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314172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443088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ренд – не «интернетовский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22600" y="443700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сплейная реклама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13440" y="443700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АЙ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01080" y="443700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лама в играх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tainment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1652760"/>
            <a:ext cx="22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л-во В-ИП = 1,6 мл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%В среди ИП = 1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2300400"/>
            <a:ext cx="22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%ИП среди В = 18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I = 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5013360"/>
            <a:ext cx="223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лерам -рекламировать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у и услуги –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екстная, поисковая рекла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43320" y="1652760"/>
            <a:ext cx="2590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л-во В-ИП = 30,6 ты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%В среди ИП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,4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43320" y="2300400"/>
            <a:ext cx="2590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%ИП среди В =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I =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4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22600" y="47973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мо-сай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2600" y="5157720"/>
            <a:ext cx="223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стандарты – в зависимости от позиционирования и клаттера на конкретном ресурс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13440" y="47973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бл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13440" y="515772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зможно, имиджевая дисплейная реклама или спонсор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01080" y="515772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ty buil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19280" y="6381720"/>
            <a:ext cx="40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* Источник: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NS Gallup Media M-Index 2005/2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, Росс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15840"/>
            <a:ext cx="8839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Black"/>
              </a:rPr>
              <a:t>Резюме: разработка стратегии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86160" y="1341360"/>
            <a:ext cx="4390920" cy="647640"/>
            <a:chOff x="2486160" y="1341360"/>
            <a:chExt cx="4390920" cy="647640"/>
          </a:xfrm>
        </p:grpSpPr>
        <p:sp>
          <p:nvSpPr>
            <p:cNvPr id="172" name=""/>
            <p:cNvSpPr/>
            <p:nvPr/>
          </p:nvSpPr>
          <p:spPr>
            <a:xfrm>
              <a:off x="2519280" y="1484280"/>
              <a:ext cx="4321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300" spc="-1" strike="noStrike">
                  <a:solidFill>
                    <a:srgbClr val="990099"/>
                  </a:solidFill>
                  <a:latin typeface="Arial"/>
                </a:rPr>
                <a:t>1. Анализ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86160" y="1341360"/>
              <a:ext cx="4390920" cy="647640"/>
            </a:xfrm>
            <a:prstGeom prst="rect">
              <a:avLst/>
            </a:prstGeom>
            <a:noFill/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486160" y="2205000"/>
            <a:ext cx="4390920" cy="1584360"/>
            <a:chOff x="2486160" y="2205000"/>
            <a:chExt cx="4390920" cy="1584360"/>
          </a:xfrm>
        </p:grpSpPr>
        <p:sp>
          <p:nvSpPr>
            <p:cNvPr id="175" name=""/>
            <p:cNvSpPr/>
            <p:nvPr/>
          </p:nvSpPr>
          <p:spPr>
            <a:xfrm>
              <a:off x="2521080" y="2924280"/>
              <a:ext cx="4321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300" spc="-1" strike="noStrike">
                  <a:solidFill>
                    <a:srgbClr val="990099"/>
                  </a:solidFill>
                  <a:latin typeface="Arial"/>
                </a:rPr>
                <a:t>2. Выбор средств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35640" y="2205000"/>
              <a:ext cx="288720" cy="504720"/>
            </a:xfrm>
            <a:prstGeom prst="downArrow">
              <a:avLst>
                <a:gd name="adj1" fmla="val 50000"/>
                <a:gd name="adj2" fmla="val 43703"/>
              </a:avLst>
            </a:prstGeom>
            <a:solidFill>
              <a:srgbClr val="990099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86160" y="2852640"/>
              <a:ext cx="4390920" cy="936720"/>
            </a:xfrm>
            <a:prstGeom prst="rect">
              <a:avLst/>
            </a:prstGeom>
            <a:noFill/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486160" y="3933720"/>
            <a:ext cx="4390920" cy="1584360"/>
            <a:chOff x="2486160" y="3933720"/>
            <a:chExt cx="4390920" cy="1584360"/>
          </a:xfrm>
        </p:grpSpPr>
        <p:sp>
          <p:nvSpPr>
            <p:cNvPr id="179" name=""/>
            <p:cNvSpPr/>
            <p:nvPr/>
          </p:nvSpPr>
          <p:spPr>
            <a:xfrm>
              <a:off x="2521080" y="4797360"/>
              <a:ext cx="4321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300" spc="-1" strike="noStrike">
                  <a:solidFill>
                    <a:srgbClr val="990099"/>
                  </a:solidFill>
                  <a:latin typeface="Arial"/>
                </a:rPr>
                <a:t>3. Реализация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37080" y="3933720"/>
              <a:ext cx="289080" cy="505080"/>
            </a:xfrm>
            <a:prstGeom prst="downArrow">
              <a:avLst>
                <a:gd name="adj1" fmla="val 50000"/>
                <a:gd name="adj2" fmla="val 43680"/>
              </a:avLst>
            </a:prstGeom>
            <a:solidFill>
              <a:srgbClr val="990099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86160" y="4581360"/>
              <a:ext cx="4390920" cy="936720"/>
            </a:xfrm>
            <a:prstGeom prst="rect">
              <a:avLst/>
            </a:prstGeom>
            <a:noFill/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4:41:42Z</dcterms:created>
  <dc:creator>Andrey Chernyshov</dc:creator>
  <dc:description/>
  <dc:language>en-US</dc:language>
  <cp:lastModifiedBy>Andrey Chernyshov</cp:lastModifiedBy>
  <dcterms:modified xsi:type="dcterms:W3CDTF">2006-03-16T08:49:37Z</dcterms:modified>
  <cp:revision>175</cp:revision>
  <dc:subject/>
  <dc:title>PowerPoint Presentation</dc:title>
</cp:coreProperties>
</file>