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116000" y="2060640"/>
            <a:ext cx="727236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тегия коммуникации с клиентом без участия сай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ёдор Вирин, директор по исследованиям, Mail.ru.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4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6000" y="3591000"/>
            <a:ext cx="1224000" cy="863640"/>
          </a:xfrm>
          <a:prstGeom prst="rightArrow">
            <a:avLst>
              <a:gd name="adj1" fmla="val 50000"/>
              <a:gd name="adj2" fmla="val 35431"/>
            </a:avLst>
          </a:prstGeom>
          <a:solidFill>
            <a:srgbClr val="00ff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698920" y="3230640"/>
            <a:ext cx="3241440" cy="1655640"/>
            <a:chOff x="2698920" y="3230640"/>
            <a:chExt cx="3241440" cy="1655640"/>
          </a:xfrm>
        </p:grpSpPr>
        <p:sp>
          <p:nvSpPr>
            <p:cNvPr id="45" name=""/>
            <p:cNvSpPr/>
            <p:nvPr/>
          </p:nvSpPr>
          <p:spPr>
            <a:xfrm>
              <a:off x="2698920" y="3230640"/>
              <a:ext cx="3241440" cy="1655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03640" y="382896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АЙ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 rot="19893600">
            <a:off x="1402920" y="4652640"/>
            <a:ext cx="1584360" cy="431640"/>
          </a:xfrm>
          <a:prstGeom prst="rightArrow">
            <a:avLst>
              <a:gd name="adj1" fmla="val 50000"/>
              <a:gd name="adj2" fmla="val 91764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16600">
            <a:off x="1114200" y="3733920"/>
            <a:ext cx="1584360" cy="431640"/>
          </a:xfrm>
          <a:prstGeom prst="rightArrow">
            <a:avLst>
              <a:gd name="adj1" fmla="val 50000"/>
              <a:gd name="adj2" fmla="val 91764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2122200">
            <a:off x="1834920" y="27255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3998400">
            <a:off x="2987280" y="2293920"/>
            <a:ext cx="1584360" cy="431640"/>
          </a:xfrm>
          <a:prstGeom prst="rightArrow">
            <a:avLst>
              <a:gd name="adj1" fmla="val 50000"/>
              <a:gd name="adj2" fmla="val 91764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3807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и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229360"/>
            <a:ext cx="633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йт – это центр интернет-маркетинга. Именно через него проходят все коммуникации, именно через него  проходят все потоки посетителей, превращающиеся в конце в клиентов. Тем не менее, когда мы говорим о продающей рекламе, то сайт может являться лишь ненужной прослойк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12859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74920" y="2006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37500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013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1628640"/>
            <a:ext cx="3671640" cy="21193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134136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ция через интерн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4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1496880"/>
            <a:ext cx="72723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туации, когда сайт может быть не нуж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объекта прямой продажи или их слишком много (1000 мелоче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 продажи надо «пощупать руками» (одежда, обувь ..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ъекта нет выделяющих особенностей (юридические услуг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ламируется конкретное, предельно простое предложение (монитор, определенной марки,  по указанной цене, монитор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ламируется «однодневка», разовый объект продажи (парт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таможенном терминале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кт рекламы – акция, не имеющая объемного информационного содержания (народное гуляние, праздник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537372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йт не обязателен во всех этих коммуникациях, и более того – он может мешать, увеличивая путь пользователя до финальной продажи. В этой ситуации нужно использовать специальные инструменты коммуникации, но не сайт, потому что это будет эффективне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4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443000">
            <a:off x="5148360" y="3789000"/>
            <a:ext cx="1224000" cy="574560"/>
          </a:xfrm>
          <a:prstGeom prst="rightArrow">
            <a:avLst>
              <a:gd name="adj1" fmla="val 50000"/>
              <a:gd name="adj2" fmla="val 53258"/>
            </a:avLst>
          </a:prstGeom>
          <a:solidFill>
            <a:srgbClr val="00ff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627280" y="2997360"/>
            <a:ext cx="2592360" cy="1439640"/>
            <a:chOff x="2627280" y="2997360"/>
            <a:chExt cx="2592360" cy="1439640"/>
          </a:xfrm>
        </p:grpSpPr>
        <p:sp>
          <p:nvSpPr>
            <p:cNvPr id="65" name=""/>
            <p:cNvSpPr/>
            <p:nvPr/>
          </p:nvSpPr>
          <p:spPr>
            <a:xfrm>
              <a:off x="2627280" y="2997360"/>
              <a:ext cx="2592360" cy="1439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30840" y="3517560"/>
              <a:ext cx="17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АЙ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rot="19893600">
            <a:off x="1331640" y="4203360"/>
            <a:ext cx="1584360" cy="431640"/>
          </a:xfrm>
          <a:prstGeom prst="rightArrow">
            <a:avLst>
              <a:gd name="adj1" fmla="val 50000"/>
              <a:gd name="adj2" fmla="val 91764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16600">
            <a:off x="1042560" y="3284640"/>
            <a:ext cx="1584360" cy="431640"/>
          </a:xfrm>
          <a:prstGeom prst="rightArrow">
            <a:avLst>
              <a:gd name="adj1" fmla="val 50000"/>
              <a:gd name="adj2" fmla="val 91764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122200">
            <a:off x="1763280" y="2276640"/>
            <a:ext cx="1584360" cy="431640"/>
          </a:xfrm>
          <a:prstGeom prst="rightArrow">
            <a:avLst>
              <a:gd name="adj1" fmla="val 50000"/>
              <a:gd name="adj2" fmla="val 91764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3998400">
            <a:off x="5724720" y="2925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300720" y="3789360"/>
            <a:ext cx="2305080" cy="1152360"/>
            <a:chOff x="6300720" y="3789360"/>
            <a:chExt cx="2305080" cy="1152360"/>
          </a:xfrm>
        </p:grpSpPr>
        <p:sp>
          <p:nvSpPr>
            <p:cNvPr id="72" name=""/>
            <p:cNvSpPr/>
            <p:nvPr/>
          </p:nvSpPr>
          <p:spPr>
            <a:xfrm>
              <a:off x="6300720" y="3789360"/>
              <a:ext cx="2305080" cy="11523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7440" y="4167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лиент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148360" y="1916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1557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25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2360" y="45640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77080" y="155736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-разме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6048000">
            <a:off x="7019640" y="2852640"/>
            <a:ext cx="1584000" cy="431640"/>
          </a:xfrm>
          <a:prstGeom prst="rightArrow">
            <a:avLst>
              <a:gd name="adj1" fmla="val 50000"/>
              <a:gd name="adj2" fmla="val 91743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1197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ная коммуник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63640" y="5300640"/>
            <a:ext cx="712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йт – лишь часть маркетинга в интернете и лишь часть коммуникаций здесь. Другая часть коммуникаций проходит мимо сайта, направляясь напрямую с рекламы или со специальных разделов, размещений, часто являющихся расширенными видами реклам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44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1555920"/>
            <a:ext cx="727236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объемной коммуникаци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объема присутствия на выгодном для коммуникации месте (интернет-магазины массовых товаров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кт рекламы - общеизвестная марка, не представляющая специального интереса (подгузники, пиво, прохладительные напит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различных предложений для отдельных целевых групп на точках их концентрации (сложные техногенные устройств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заимодействие с целевыми группами, редко, эпизодически использующими интернет (семинары, региональные предложен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5084640"/>
            <a:ext cx="741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сех этих вариантов сайт – лишь один из инструментов коммуникации в интернете, возможно, далеко не самый главный среди используемых инструментов коммуникации. Он занимает свое место, привлекая свою часть клиентов. При этом направление потоков через сайт или напрямую – задача, которую следует решать отдельно в каждом случа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4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1484280"/>
            <a:ext cx="77058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нестандартных размещен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ефоны на баннере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бы это ни было странно, но телефон на баннере продает очень хорошо, при условии, что указано конкретное предложение (холодильник такой-то, стоимость). Чем больше времени требуется для принятия решения и чем лучше при этом цена, тем лучше работает такой баннер – он собирает сливки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мо-разделы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циальные разделы на тематических сайтах, и в разделах каталогов посвященные марке, модели, виду продукции. Применимо во всех случаях, но особенно, когда продукт сам по себе не вызывает особенного интереса пользователей, то есть привычный продукт. Пример – «Нестандартный вариант» в каталог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.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непосредственно в базе данн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исковика или торговой площадки. Нужно в том случае, когда речь идет о конкретных прайсах. Примеры – всем известны это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.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rg.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.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на баннер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вершенно не обязательно с баннера переходить или звонить, если это концерт на который надо идти, то достаточно на баннере указать место. Пример – ЦУ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17666" t="17384" r="20020" b="17358"/>
          <a:stretch/>
        </p:blipFill>
        <p:spPr>
          <a:xfrm>
            <a:off x="179280" y="1341360"/>
            <a:ext cx="5040360" cy="432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4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18585" t="17665" r="19450" b="20499"/>
          <a:stretch/>
        </p:blipFill>
        <p:spPr>
          <a:xfrm>
            <a:off x="1979640" y="2133720"/>
            <a:ext cx="4319640" cy="3528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3640" y="3860640"/>
            <a:ext cx="5761080" cy="275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118800" bIns="118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эффективности нестандартного варианта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ижение потерь за счет уменьшения числа пере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легкой и быстрой смены акц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ниже чем просто рекла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 точная подстройка под каждую целевую группу за счет создания специальных предлож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3860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38606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dor</cp:lastModifiedBy>
  <dcterms:modified xsi:type="dcterms:W3CDTF">2006-03-15T22:42:22Z</dcterms:modified>
  <cp:revision>891</cp:revision>
  <dc:subject/>
  <dc:title>PowerPoint Presentation</dc:title>
</cp:coreProperties>
</file>