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bin" ContentType="application/vnd.openxmlformats-officedocument.oleObject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.png" ContentType="image/png"/>
  <Override PartName="/ppt/media/image2.wmf" ContentType="image/x-wmf"/>
  <Override PartName="/ppt/media/image15.jpeg" ContentType="image/jpeg"/>
  <Override PartName="/ppt/media/image3.wmf" ContentType="image/x-wmf"/>
  <Override PartName="/ppt/media/image13.jpeg" ContentType="image/jpeg"/>
  <Override PartName="/ppt/media/image4.wmf" ContentType="image/x-wmf"/>
  <Override PartName="/ppt/media/image5.jpeg" ContentType="image/jpeg"/>
  <Override PartName="/ppt/media/image8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58B17-D0E4-40C6-BE8A-3AFC45C60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0C7BC-C5D1-459E-991E-3725C1E94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1CC94-6026-49B9-9C4F-E989BFE46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42767-3BA5-439C-B6CB-E837564F4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7881B-B7F5-4CE0-95A2-DB2978307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D28E9-941A-4186-A9C9-C1577C5EC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97542-0B56-4AAF-97A7-F5E2B0121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6B203-715E-409B-9BFE-FAEE49513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DCD7D-BD04-44CC-AB96-3F6FD8023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1C76D-DC60-42AF-8379-F8FC818E1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AFE9D-E5C1-43FA-9C8C-AB0D757E2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B9F5C-D546-4E19-8871-9682542FC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1AE55-0F08-48C6-AAC1-5358629955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8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5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5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package" Target="../embeddings/oleObject2.xlsx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5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68360" y="620640"/>
            <a:ext cx="7235640" cy="12240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ffff"/>
                </a:solidFill>
                <a:latin typeface="Times New Roman"/>
              </a:rPr>
              <a:t>газета.</a:t>
            </a:r>
            <a:r>
              <a:rPr b="0" lang="en-US" sz="6600" spc="-1" strike="noStrike">
                <a:solidFill>
                  <a:srgbClr val="ffffff"/>
                </a:solidFill>
                <a:latin typeface="Times New Roman"/>
              </a:rPr>
              <a:t>ru</a:t>
            </a:r>
            <a:br>
              <a:rPr sz="6600"/>
            </a:br>
            <a:r>
              <a:rPr b="0" lang="ru-RU" sz="1600" spc="-1" strike="noStrike">
                <a:solidFill>
                  <a:srgbClr val="cddeff"/>
                </a:solidFill>
                <a:latin typeface="Garamond"/>
              </a:rPr>
              <a:t>настоящая газета в интернет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71640" y="2997360"/>
            <a:ext cx="7235640" cy="122364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Непошлый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R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66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692360" y="260280"/>
            <a:ext cx="6912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Отличительные особенности интегрированных кампаний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0" y="0"/>
          <a:ext cx="114948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114948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" name=""/>
          <p:cNvSpPr/>
          <p:nvPr/>
        </p:nvSpPr>
        <p:spPr>
          <a:xfrm>
            <a:off x="1233360" y="678600"/>
            <a:ext cx="774072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  </a:t>
            </a:r>
            <a:r>
              <a:rPr b="1" lang="ru-RU" sz="1800" spc="-1" strike="noStrike">
                <a:solidFill>
                  <a:srgbClr val="333399"/>
                </a:solidFill>
                <a:latin typeface="Times New Roman"/>
              </a:rPr>
              <a:t>использование разнообразных коммуникативных инструментов в одной кампании: от редакционных заметок до прямой реклам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«Неделя Великобритании в Газете.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Ru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1295280" y="1682640"/>
            <a:ext cx="4597560" cy="33339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4394160" y="3352680"/>
            <a:ext cx="4606920" cy="33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692360" y="260280"/>
            <a:ext cx="6912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Отличительные особенности интегрированных кампаний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0" y="0"/>
          <a:ext cx="114948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114948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"/>
          <p:cNvSpPr/>
          <p:nvPr/>
        </p:nvSpPr>
        <p:spPr>
          <a:xfrm>
            <a:off x="1182600" y="678600"/>
            <a:ext cx="76438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  </a:t>
            </a:r>
            <a:r>
              <a:rPr b="1" lang="ru-RU" sz="1800" spc="-1" strike="noStrike">
                <a:solidFill>
                  <a:srgbClr val="333399"/>
                </a:solidFill>
                <a:latin typeface="Times New Roman"/>
              </a:rPr>
              <a:t>работа в рамках одной кампании с различными целевыми аудиториям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Times New Roman"/>
              </a:rPr>
              <a:t>Зимняя олимпиада 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«Турин 2006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1270080" y="1689120"/>
            <a:ext cx="4870440" cy="35305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>
            <a:off x="4102200" y="3170160"/>
            <a:ext cx="4857480" cy="35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692360" y="260280"/>
            <a:ext cx="6912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Отличительные особенности интегрированных кампаний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0" y="0"/>
          <a:ext cx="114948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114948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"/>
          <p:cNvSpPr/>
          <p:nvPr/>
        </p:nvSpPr>
        <p:spPr>
          <a:xfrm>
            <a:off x="1182600" y="693000"/>
            <a:ext cx="764388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  </a:t>
            </a:r>
            <a:r>
              <a:rPr b="1" lang="ru-RU" sz="1800" spc="-1" strike="noStrike">
                <a:solidFill>
                  <a:srgbClr val="333399"/>
                </a:solidFill>
                <a:latin typeface="Times New Roman"/>
              </a:rPr>
              <a:t>достижение множества целей одним заказчиком в рамках одной кампании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Times New Roman"/>
              </a:rPr>
              <a:t>«Неделя Великобритании в Газете.</a:t>
            </a:r>
            <a:r>
              <a:rPr b="1" lang="en-US" sz="1800" spc="-1" strike="noStrike">
                <a:solidFill>
                  <a:srgbClr val="333399"/>
                </a:solidFill>
                <a:latin typeface="Times New Roman"/>
              </a:rPr>
              <a:t>Ru</a:t>
            </a:r>
            <a:r>
              <a:rPr b="1" lang="ru-RU" sz="1800" spc="-1" strike="noStrike">
                <a:solidFill>
                  <a:srgbClr val="333399"/>
                </a:solidFill>
                <a:latin typeface="Times New Roman"/>
              </a:rPr>
              <a:t>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1231920" y="1650960"/>
            <a:ext cx="4686120" cy="33973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4330800" y="3378240"/>
            <a:ext cx="4674960" cy="338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692360" y="260280"/>
            <a:ext cx="6912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Отличительные особенности интегрированных кампаний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0" y="0"/>
          <a:ext cx="114948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114948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"/>
          <p:cNvSpPr/>
          <p:nvPr/>
        </p:nvSpPr>
        <p:spPr>
          <a:xfrm>
            <a:off x="1182600" y="829440"/>
            <a:ext cx="76438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  </a:t>
            </a:r>
            <a:r>
              <a:rPr b="1" lang="ru-RU" sz="1800" spc="-1" strike="noStrike">
                <a:solidFill>
                  <a:srgbClr val="333399"/>
                </a:solidFill>
                <a:latin typeface="Times New Roman"/>
              </a:rPr>
              <a:t>оперативное управление кампанией</a:t>
            </a:r>
            <a:r>
              <a:rPr b="0" lang="ru-RU" sz="18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Times New Roman"/>
              </a:rPr>
              <a:t>«Угроза птичьего грипп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1282680" y="1549440"/>
            <a:ext cx="4564080" cy="34225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4"/>
          <a:stretch/>
        </p:blipFill>
        <p:spPr>
          <a:xfrm>
            <a:off x="4444920" y="3308400"/>
            <a:ext cx="4546800" cy="34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692360" y="260280"/>
            <a:ext cx="6912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Как мы это дела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0" y="0"/>
          <a:ext cx="114948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114948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1152360" y="661320"/>
            <a:ext cx="7710480" cy="605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623880" indent="-4446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0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Инструменты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  <a:ea typeface="宋体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23880" indent="-444600">
              <a:lnSpc>
                <a:spcPct val="100000"/>
              </a:lnSpc>
              <a:spcBef>
                <a:spcPts val="1125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0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Times New Roman"/>
              </a:rPr>
              <a:t>визуальное (графическое) информирование: баннеры, навигационные панели, анонсные баннер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23880" indent="-444600">
              <a:lnSpc>
                <a:spcPct val="100000"/>
              </a:lnSpc>
              <a:spcBef>
                <a:spcPts val="1125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0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Times New Roman"/>
              </a:rPr>
              <a:t>текстовое информирование: заголовки в «Расческе» и «Партнерском блоке», анонсные текстово-графические блоки, выведение фотографий и вводок статей на топовые по посещаемости страниц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23880" indent="-444600">
              <a:lnSpc>
                <a:spcPct val="100000"/>
              </a:lnSpc>
              <a:spcBef>
                <a:spcPts val="1125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0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Times New Roman"/>
              </a:rPr>
              <a:t>измерения и исследования: опросы, рейтинги тем, анализ проявившей активность аудитории, вплоть до личного знакомства при вручении призов</a:t>
            </a:r>
            <a:r>
              <a:rPr b="0" lang="ru-RU" sz="18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23880" indent="-444600">
              <a:lnSpc>
                <a:spcPct val="100000"/>
              </a:lnSpc>
              <a:spcBef>
                <a:spcPts val="1125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0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Times New Roman"/>
              </a:rPr>
              <a:t>ко-брендинг: продвижение совместных проектов, когда перечисление организаторов может повлиять на повышение лояльности или интереса к проекту и на их собственный имидж. Примеры: «Артефакт» (организатор </a:t>
            </a:r>
            <a:r>
              <a:rPr b="1" lang="en-US" sz="1800" spc="-1" strike="noStrike">
                <a:solidFill>
                  <a:srgbClr val="333399"/>
                </a:solidFill>
                <a:latin typeface="Times New Roman"/>
                <a:ea typeface="宋体"/>
              </a:rPr>
              <a:t>RFW</a:t>
            </a:r>
            <a:r>
              <a:rPr b="1" lang="ru-RU" sz="1800" spc="-1" strike="noStrike">
                <a:solidFill>
                  <a:srgbClr val="333399"/>
                </a:solidFill>
                <a:latin typeface="Times New Roman"/>
              </a:rPr>
              <a:t>) и Газета.</a:t>
            </a:r>
            <a:r>
              <a:rPr b="1" lang="en-US" sz="1800" spc="-1" strike="noStrike">
                <a:solidFill>
                  <a:srgbClr val="333399"/>
                </a:solidFill>
                <a:latin typeface="Times New Roman"/>
                <a:ea typeface="宋体"/>
              </a:rPr>
              <a:t>Ru</a:t>
            </a:r>
            <a:r>
              <a:rPr b="1" lang="ru-RU" sz="1800" spc="-1" strike="noStrike">
                <a:solidFill>
                  <a:srgbClr val="333399"/>
                </a:solidFill>
                <a:latin typeface="Times New Roman"/>
              </a:rPr>
              <a:t>. </a:t>
            </a:r>
            <a:r>
              <a:rPr b="1" lang="en-US" sz="1800" spc="-1" strike="noStrike">
                <a:solidFill>
                  <a:srgbClr val="333399"/>
                </a:solidFill>
                <a:latin typeface="Times New Roman"/>
                <a:ea typeface="宋体"/>
              </a:rPr>
              <a:t>Independent Media</a:t>
            </a:r>
            <a:r>
              <a:rPr b="1" lang="ru-RU" sz="1800" spc="-1" strike="noStrike">
                <a:solidFill>
                  <a:srgbClr val="333399"/>
                </a:solidFill>
                <a:latin typeface="Times New Roman"/>
              </a:rPr>
              <a:t> (организатор «</a:t>
            </a:r>
            <a:r>
              <a:rPr b="1" lang="en-US" sz="1800" spc="-1" strike="noStrike">
                <a:solidFill>
                  <a:srgbClr val="333399"/>
                </a:solidFill>
                <a:latin typeface="Times New Roman"/>
                <a:ea typeface="宋体"/>
              </a:rPr>
              <a:t>Millionaire Fair</a:t>
            </a:r>
            <a:r>
              <a:rPr b="1" lang="ru-RU" sz="1800" spc="-1" strike="noStrike">
                <a:solidFill>
                  <a:srgbClr val="333399"/>
                </a:solidFill>
                <a:latin typeface="Times New Roman"/>
              </a:rPr>
              <a:t>») и Газета.</a:t>
            </a:r>
            <a:r>
              <a:rPr b="1" lang="en-US" sz="1800" spc="-1" strike="noStrike">
                <a:solidFill>
                  <a:srgbClr val="333399"/>
                </a:solidFill>
                <a:latin typeface="Times New Roman"/>
                <a:ea typeface="宋体"/>
              </a:rPr>
              <a:t>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23880" indent="-444600">
              <a:lnSpc>
                <a:spcPct val="100000"/>
              </a:lnSpc>
              <a:spcBef>
                <a:spcPts val="1125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0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Times New Roman"/>
              </a:rPr>
              <a:t>интерактивное взаимодействие с аудиторией: читательские письма для публикации и просто анализ обратной связи, он-лайн игры, консультации, он-лайн интервью, рассылка по базе подписчиков и т.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130400" y="2533680"/>
            <a:ext cx="8013600" cy="9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Приме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«Неделя Великобретании в Газете.Ру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0" y="0"/>
          <a:ext cx="114948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114948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568520" y="1060560"/>
            <a:ext cx="288108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ПЕРВАЯ СТРАНИЦ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imes New Roman"/>
              </a:rPr>
              <a:t>Горизонтальная панель, информирующ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imes New Roman"/>
              </a:rPr>
              <a:t>о проект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imes New Roman"/>
              </a:rPr>
              <a:t>Охват 500 тысяч человек в недел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244520" y="4092480"/>
            <a:ext cx="3505320" cy="9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ЕРВАЯ СТРАНИЦ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Аннонс интервью с послом Великобритан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В России за неделю до интервь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150 вопросов поступил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25 тысяч человек посетили страницу с интервь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689120" y="5194440"/>
            <a:ext cx="2994120" cy="9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ПЕРВАЯ СТРАНИЦ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imes New Roman"/>
              </a:rPr>
              <a:t>Анонс актуальной замет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imes New Roman"/>
              </a:rPr>
              <a:t>Меняется один раз в сут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imes New Roman"/>
              </a:rPr>
              <a:t>Около 4 тысяч человек заходи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imes New Roman"/>
              </a:rPr>
              <a:t>с каждого анон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0" y="0"/>
          <a:ext cx="114948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114948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692360" y="260280"/>
            <a:ext cx="6912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Неделя Великобритании в Газете.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4863960" y="774720"/>
            <a:ext cx="3937320" cy="285444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4"/>
          <a:stretch/>
        </p:blipFill>
        <p:spPr>
          <a:xfrm>
            <a:off x="4863960" y="3708360"/>
            <a:ext cx="3924360" cy="28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4724280" y="749160"/>
            <a:ext cx="4229280" cy="306576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1692360" y="260280"/>
            <a:ext cx="6912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1268280"/>
            <a:ext cx="3273480" cy="132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РУБРИКИ и ПРИЛОЖ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imes New Roman"/>
              </a:rPr>
              <a:t>Горизонтальная панель, информирующ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imes New Roman"/>
              </a:rPr>
              <a:t>о проект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imes New Roman"/>
              </a:rPr>
              <a:t>Вертикальная навигационная панель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imes New Roman"/>
              </a:rPr>
              <a:t>ссылки на разделы проек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imes New Roman"/>
              </a:rPr>
              <a:t>Охват 800 тысяч человек в неделю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796000" y="4437000"/>
            <a:ext cx="2881440" cy="9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ПРИЛОЖЕНИЕ ОТДЫ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imes New Roman"/>
              </a:rPr>
              <a:t>Анонсы всех опубликованных в рамка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imes New Roman"/>
              </a:rPr>
              <a:t>проекта стат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imes New Roman"/>
              </a:rPr>
              <a:t>Охват 50 тысяч человек в недел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0" y="0"/>
          <a:ext cx="1149480" cy="685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114948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" name=""/>
          <p:cNvSpPr/>
          <p:nvPr/>
        </p:nvSpPr>
        <p:spPr>
          <a:xfrm>
            <a:off x="5796000" y="5170320"/>
            <a:ext cx="3048120" cy="13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АНОНСНЫЕ БАННЕ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2 млн показов форматами 720х90 и 240х4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41600" y="209520"/>
            <a:ext cx="6912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Неделя Великобритании в Газете.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4"/>
          <a:stretch/>
        </p:blipFill>
        <p:spPr>
          <a:xfrm>
            <a:off x="1320840" y="3556080"/>
            <a:ext cx="4206960" cy="30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691160" y="762120"/>
            <a:ext cx="4186080" cy="30351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1692360" y="260280"/>
            <a:ext cx="6912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Страницы проекта Неделя Великобритании в Газете.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763640" y="1268280"/>
            <a:ext cx="2881440" cy="9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ТИТУЛЬНАЯ СТРАНИЦА</a:t>
            </a:r>
            <a:r>
              <a:rPr b="1" lang="en-US" sz="12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imes New Roman"/>
              </a:rPr>
              <a:t>Посещаемость 25 тысяч показов в сутк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796000" y="4437000"/>
            <a:ext cx="2881440" cy="9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ТРАНИЦЫ С КОНТЕНТОМ</a:t>
            </a: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Посещаемлсть 60 тысяч показов в сутк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0" y="0"/>
          <a:ext cx="1149480" cy="685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114948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1" name="" descr=""/>
          <p:cNvPicPr/>
          <p:nvPr/>
        </p:nvPicPr>
        <p:blipFill>
          <a:blip r:embed="rId4"/>
          <a:stretch/>
        </p:blipFill>
        <p:spPr>
          <a:xfrm>
            <a:off x="1333440" y="3530520"/>
            <a:ext cx="4221360" cy="30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692360" y="260280"/>
            <a:ext cx="6912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Страницы проекта Неделя Великобритании в Газете.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371600" y="1600200"/>
            <a:ext cx="2971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ОЗЫГРЫШ ПОЕЗДКИ В БРИТАНИЮ </a:t>
            </a: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imes New Roman"/>
              </a:rPr>
              <a:t>200</a:t>
            </a: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 тысяч показов в сутк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imes New Roman"/>
              </a:rPr>
              <a:t>80</a:t>
            </a: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 тысяч посетителей в сут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715000" y="3809880"/>
            <a:ext cx="288144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НОВОСТНАЯ ЛЕН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imes New Roman"/>
              </a:rPr>
              <a:t>30 тысяч показов в сутк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imes New Roman"/>
              </a:rPr>
              <a:t>15 тысяч посетителей в сут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0" y="0"/>
          <a:ext cx="114948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114948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" name=""/>
          <p:cNvSpPr/>
          <p:nvPr/>
        </p:nvSpPr>
        <p:spPr>
          <a:xfrm flipV="1">
            <a:off x="5791320" y="4877640"/>
            <a:ext cx="2819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715000" y="4495680"/>
            <a:ext cx="28814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РАССЫЛКА КОНТЕН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imes New Roman"/>
              </a:rPr>
              <a:t>30 тысяч показов в сутк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imes New Roman"/>
              </a:rPr>
              <a:t>15 тысяч посетителей в сут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715000" y="4952880"/>
            <a:ext cx="2957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ПИСЬМА ЧИТАТЕЛ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imes New Roman"/>
              </a:rPr>
              <a:t>30 тысяч показов в сутк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imes New Roman"/>
              </a:rPr>
              <a:t>15 тысяч посетителей в сут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371600" y="990720"/>
            <a:ext cx="30337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ТЕМА ДН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imes New Roman"/>
              </a:rPr>
              <a:t>30 тысяч показов в сутк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imes New Roman"/>
              </a:rPr>
              <a:t>15 тысяч посетителей в сут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371600" y="2286000"/>
            <a:ext cx="30337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АНОНС ИНТЕРВЬЮ С ПОСЛ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imes New Roman"/>
              </a:rPr>
              <a:t>30 тысяч показов в сутк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imes New Roman"/>
              </a:rPr>
              <a:t>15 тысяч посетителей в сут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3"/>
          <a:stretch/>
        </p:blipFill>
        <p:spPr>
          <a:xfrm>
            <a:off x="4691160" y="762120"/>
            <a:ext cx="4186080" cy="303516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4"/>
          <a:stretch/>
        </p:blipFill>
        <p:spPr>
          <a:xfrm>
            <a:off x="1298520" y="3441600"/>
            <a:ext cx="4189320" cy="30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547640" y="1196640"/>
            <a:ext cx="7056720" cy="510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Times New Roman"/>
              </a:rPr>
              <a:t>Газета.</a:t>
            </a:r>
            <a:r>
              <a:rPr b="1" lang="en-US" sz="1800" spc="-1" strike="noStrike">
                <a:solidFill>
                  <a:srgbClr val="333399"/>
                </a:solidFill>
                <a:latin typeface="Times New Roman"/>
              </a:rPr>
              <a:t>Ru</a:t>
            </a:r>
            <a:r>
              <a:rPr b="0" lang="ru-RU" sz="1800" spc="-1" strike="noStrike">
                <a:solidFill>
                  <a:srgbClr val="333399"/>
                </a:solidFill>
                <a:latin typeface="Times New Roman"/>
              </a:rPr>
              <a:t> – ведущее онлайновое издание, известное своей оперативностью, влиятельностью и широтой охвата аудитории. Издание включает в себя рубрики Политика, Бизнес, Финансы, Общество, Комментарии, Культура, Спорт, Авто, </a:t>
            </a: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International Edition </a:t>
            </a:r>
            <a:r>
              <a:rPr b="0" lang="ru-RU" sz="1800" spc="-1" strike="noStrike">
                <a:solidFill>
                  <a:srgbClr val="333399"/>
                </a:solidFill>
                <a:latin typeface="Times New Roman"/>
              </a:rPr>
              <a:t>и приложения – Матпомощь, Техзона, Отдых, Жилплощадь, Образование, Стил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Times New Roman"/>
              </a:rPr>
              <a:t>Е</a:t>
            </a:r>
            <a:r>
              <a:rPr b="0" lang="ru-RU" sz="1800" spc="-1" strike="noStrike">
                <a:solidFill>
                  <a:srgbClr val="333399"/>
                </a:solidFill>
                <a:latin typeface="Times New Roman"/>
              </a:rPr>
              <a:t>жедневная аудитория </a:t>
            </a:r>
            <a:r>
              <a:rPr b="1" lang="ru-RU" sz="1800" spc="-1" strike="noStrike">
                <a:solidFill>
                  <a:srgbClr val="333399"/>
                </a:solidFill>
                <a:latin typeface="Times New Roman"/>
              </a:rPr>
              <a:t>Газеты.</a:t>
            </a:r>
            <a:r>
              <a:rPr b="1" lang="en-US" sz="1800" spc="-1" strike="noStrike">
                <a:solidFill>
                  <a:srgbClr val="333399"/>
                </a:solidFill>
                <a:latin typeface="Times New Roman"/>
              </a:rPr>
              <a:t>Ru</a:t>
            </a: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333399"/>
                </a:solidFill>
                <a:latin typeface="Times New Roman"/>
              </a:rPr>
              <a:t>насчитывает около </a:t>
            </a: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20</a:t>
            </a:r>
            <a:r>
              <a:rPr b="0" lang="ru-RU" sz="1800" spc="-1" strike="noStrike">
                <a:solidFill>
                  <a:srgbClr val="333399"/>
                </a:solidFill>
                <a:latin typeface="Times New Roman"/>
              </a:rPr>
              <a:t>0 тысяч человек. Наши читатели - представители наиболее активной и материально обеспеченной части общества, что делает </a:t>
            </a:r>
            <a:r>
              <a:rPr b="1" lang="ru-RU" sz="1800" spc="-1" strike="noStrike">
                <a:solidFill>
                  <a:srgbClr val="333399"/>
                </a:solidFill>
                <a:latin typeface="Times New Roman"/>
              </a:rPr>
              <a:t>Газету.</a:t>
            </a:r>
            <a:r>
              <a:rPr b="1" lang="en-US" sz="1800" spc="-1" strike="noStrike">
                <a:solidFill>
                  <a:srgbClr val="333399"/>
                </a:solidFill>
                <a:latin typeface="Times New Roman"/>
              </a:rPr>
              <a:t>Ru</a:t>
            </a:r>
            <a:r>
              <a:rPr b="0" lang="ru-RU" sz="1800" spc="-1" strike="noStrike">
                <a:solidFill>
                  <a:srgbClr val="333399"/>
                </a:solidFill>
                <a:latin typeface="Times New Roman"/>
              </a:rPr>
              <a:t> наиболее привлекательной рекламной площадкой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0" y="0"/>
          <a:ext cx="118728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118728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1692360" y="260280"/>
            <a:ext cx="6912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Преимущества интернета при проведении интегрированны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pr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-кампани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981080" y="685800"/>
            <a:ext cx="6696360" cy="468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0" y="0"/>
          <a:ext cx="114948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114948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8" name=""/>
          <p:cNvSpPr/>
          <p:nvPr/>
        </p:nvSpPr>
        <p:spPr>
          <a:xfrm>
            <a:off x="1152360" y="1007640"/>
            <a:ext cx="7710480" cy="433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623880" indent="-444600">
              <a:lnSpc>
                <a:spcPct val="100000"/>
              </a:lnSpc>
              <a:spcBef>
                <a:spcPts val="1125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0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все поддается измерению даже 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  <a:ea typeface="宋体"/>
              </a:rPr>
              <a:t>pr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-инструмент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23880" indent="-444600">
              <a:lnSpc>
                <a:spcPct val="100000"/>
              </a:lnSpc>
              <a:spcBef>
                <a:spcPts val="1125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0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оперативный анализ негатив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23880" indent="-444600">
              <a:lnSpc>
                <a:spcPct val="100000"/>
              </a:lnSpc>
              <a:spcBef>
                <a:spcPts val="1125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0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оперативная коррекция в момент проведения кампани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23880" indent="-444600">
              <a:lnSpc>
                <a:spcPct val="100000"/>
              </a:lnSpc>
              <a:spcBef>
                <a:spcPts val="1125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0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создание виртуальных инфоповодо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23880" indent="-444600">
              <a:lnSpc>
                <a:spcPct val="100000"/>
              </a:lnSpc>
              <a:spcBef>
                <a:spcPts val="1125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0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распространение «слухов», создание «молвы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23880" indent="-444600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0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блокирование «опасной» информ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23880" indent="-444600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0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отсутствие четких подзаконных актов и правоприменительной практики по большинству законодательных ограничений на продвижение алкогольной, табачной  и фармацевтической продукции, а так же азартных иг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692360" y="260280"/>
            <a:ext cx="6912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Сухой остат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796000" y="4437000"/>
            <a:ext cx="2881440" cy="9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0" y="0"/>
          <a:ext cx="114948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114948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3" name=""/>
          <p:cNvSpPr/>
          <p:nvPr/>
        </p:nvSpPr>
        <p:spPr>
          <a:xfrm>
            <a:off x="1152360" y="621720"/>
            <a:ext cx="771048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623880" indent="-444600">
              <a:lnSpc>
                <a:spcPct val="100000"/>
              </a:lnSpc>
              <a:buClr>
                <a:srgbClr val="333399"/>
              </a:buClr>
              <a:buFont typeface="Wingdings" charset="2"/>
              <a:buChar char=""/>
              <a:tabLst>
                <a:tab algn="l" pos="90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Times New Roman"/>
              </a:rPr>
              <a:t>Интернет может использоваться как полигон для обкатки новаторских и спорных рекламных иде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23880" indent="-444600">
              <a:lnSpc>
                <a:spcPct val="100000"/>
              </a:lnSpc>
              <a:buClr>
                <a:srgbClr val="333399"/>
              </a:buClr>
              <a:buFont typeface="Wingdings" charset="2"/>
              <a:buChar char=""/>
              <a:tabLst>
                <a:tab algn="l" pos="90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Times New Roman"/>
              </a:rPr>
              <a:t>Интернет дает самое глубокое (синергия инструментов) и длительное (перепубликации, открытые архивы) воздействие на аудиторию при продвижении сложных продуктов и услуг или достижении неочевидных </a:t>
            </a:r>
            <a:r>
              <a:rPr b="1" lang="en-US" sz="1800" spc="-1" strike="noStrike">
                <a:solidFill>
                  <a:srgbClr val="333399"/>
                </a:solidFill>
                <a:latin typeface="Times New Roman"/>
                <a:ea typeface="宋体"/>
              </a:rPr>
              <a:t>pr</a:t>
            </a:r>
            <a:r>
              <a:rPr b="1" lang="ru-RU" sz="1800" spc="-1" strike="noStrike">
                <a:solidFill>
                  <a:srgbClr val="333399"/>
                </a:solidFill>
                <a:latin typeface="Times New Roman"/>
              </a:rPr>
              <a:t>-задач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23880" indent="-444600">
              <a:lnSpc>
                <a:spcPct val="100000"/>
              </a:lnSpc>
              <a:buClr>
                <a:srgbClr val="333399"/>
              </a:buClr>
              <a:buFont typeface="Wingdings" charset="2"/>
              <a:buChar char=""/>
              <a:tabLst>
                <a:tab algn="l" pos="90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Times New Roman"/>
              </a:rPr>
              <a:t>только в Интернете можно одним контентом на одном ресурсе достучаться до разных целевых аудитори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23880" indent="-444600">
              <a:lnSpc>
                <a:spcPct val="100000"/>
              </a:lnSpc>
              <a:buClr>
                <a:srgbClr val="333399"/>
              </a:buClr>
              <a:buFont typeface="Wingdings" charset="2"/>
              <a:buChar char=""/>
              <a:tabLst>
                <a:tab algn="l" pos="90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Times New Roman"/>
              </a:rPr>
              <a:t>низкая стоимость интегрированных кампаний в интернете позволяет использовать эти эффективные приемы  рекламодателям со средними бюджетам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23880" indent="-444600">
              <a:lnSpc>
                <a:spcPct val="100000"/>
              </a:lnSpc>
              <a:buClr>
                <a:srgbClr val="333399"/>
              </a:buClr>
              <a:buFont typeface="Wingdings" charset="2"/>
              <a:buChar char=""/>
              <a:tabLst>
                <a:tab algn="l" pos="90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Times New Roman"/>
              </a:rPr>
              <a:t>только Интернет позволяет управлять открытой для широкой аудитории информацией:  открытый доступ и «глобальность» сети, а также высокая мобильность инфраструктуры позволяет заинтересованному лицу вовремя диагностировать проблему и мгновенно среагировать на н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23880" indent="-444600">
              <a:lnSpc>
                <a:spcPct val="100000"/>
              </a:lnSpc>
              <a:buClr>
                <a:srgbClr val="333399"/>
              </a:buClr>
              <a:buFont typeface="Wingdings" charset="2"/>
              <a:buChar char=""/>
              <a:tabLst>
                <a:tab algn="l" pos="90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Times New Roman"/>
              </a:rPr>
              <a:t>возможно искусственное  инициирование тем и коррекция информационного простран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23880" indent="-444600">
              <a:lnSpc>
                <a:spcPct val="100000"/>
              </a:lnSpc>
              <a:buClr>
                <a:srgbClr val="333399"/>
              </a:buClr>
              <a:buFont typeface="Wingdings" charset="2"/>
              <a:buChar char=""/>
              <a:tabLst>
                <a:tab algn="l" pos="90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Times New Roman"/>
              </a:rPr>
              <a:t>быстрое формирование спроса на совершенно новый или нестандартный продук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23880" indent="-444600">
              <a:lnSpc>
                <a:spcPct val="100000"/>
              </a:lnSpc>
              <a:buClr>
                <a:srgbClr val="333399"/>
              </a:buClr>
              <a:buFont typeface="Wingdings" charset="2"/>
              <a:buChar char=""/>
              <a:tabLst>
                <a:tab algn="l" pos="90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Times New Roman"/>
              </a:rPr>
              <a:t>в интегрированных кампаниях можно иметь союзников, а значит оптимизировать расход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5796000" y="4437000"/>
            <a:ext cx="2881440" cy="9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0"/>
          <a:ext cx="114948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114948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7" name=""/>
          <p:cNvSpPr/>
          <p:nvPr/>
        </p:nvSpPr>
        <p:spPr>
          <a:xfrm>
            <a:off x="1130400" y="2533680"/>
            <a:ext cx="8013600" cy="9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Спасибо за внимание 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547640" y="907920"/>
            <a:ext cx="2808360" cy="13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Статистика по Газете.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Ru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1</a:t>
            </a:r>
            <a:r>
              <a:rPr b="1" lang="en-US" sz="1200" spc="-1" strike="noStrike">
                <a:solidFill>
                  <a:srgbClr val="333399"/>
                </a:solidFill>
                <a:latin typeface="Times New Roman"/>
              </a:rPr>
              <a:t>00</a:t>
            </a: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0 тысяч показов в сутк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imes New Roman"/>
              </a:rPr>
              <a:t>200</a:t>
            </a: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 тысячи посетителей в сут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708280"/>
            <a:ext cx="244800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Портрет аудитор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258920" y="3645000"/>
          <a:ext cx="4105080" cy="2200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3645000"/>
                    <a:ext cx="4105080" cy="22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5435640" y="3645000"/>
          <a:ext cx="3529080" cy="21970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35640" y="3645000"/>
                    <a:ext cx="3529080" cy="219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3708360" y="3933720"/>
            <a:ext cx="1152720" cy="35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Возрас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596360" y="4005360"/>
            <a:ext cx="1223640" cy="358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Уровень доход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0" y="0"/>
          <a:ext cx="1116000" cy="6858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0"/>
                    <a:ext cx="1116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500"/>
                            </p:stCondLst>
                            <p:childTnLst>
                              <p:par>
                                <p:cTn id="2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3500"/>
                            </p:stCondLst>
                            <p:childTnLst>
                              <p:par>
                                <p:cTn id="3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4500"/>
                            </p:stCondLst>
                            <p:childTnLst>
                              <p:par>
                                <p:cTn id="4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" dur="1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500"/>
                            </p:stCondLst>
                            <p:childTnLst>
                              <p:par>
                                <p:cTn id="4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" dur="1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692360" y="260280"/>
            <a:ext cx="6912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Чего не любят наши читате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0" y="0"/>
          <a:ext cx="114948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114948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"/>
          <p:cNvSpPr/>
          <p:nvPr/>
        </p:nvSpPr>
        <p:spPr>
          <a:xfrm>
            <a:off x="1152360" y="713880"/>
            <a:ext cx="7710480" cy="58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623880" indent="-444600">
              <a:lnSpc>
                <a:spcPct val="100000"/>
              </a:lnSpc>
              <a:spcBef>
                <a:spcPts val="751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0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Чрезмерное количество прямой рекламы и ее навязчив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23880" indent="-444600">
              <a:lnSpc>
                <a:spcPct val="100000"/>
              </a:lnSpc>
              <a:spcBef>
                <a:spcPts val="751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0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Невысокое качество рекламы и ее низкую информатив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23880" indent="-444600">
              <a:lnSpc>
                <a:spcPct val="100000"/>
              </a:lnSpc>
              <a:spcBef>
                <a:spcPts val="751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0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Любое навигационное лукавство и введение в заблуждение заголовками или слоган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23880" indent="-444600">
              <a:lnSpc>
                <a:spcPct val="100000"/>
              </a:lnSpc>
              <a:spcBef>
                <a:spcPts val="751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0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Попытки выдать рекламные тексты за редакцион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23880" indent="-444600">
              <a:lnSpc>
                <a:spcPct val="100000"/>
              </a:lnSpc>
              <a:spcBef>
                <a:spcPts val="751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0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Любые принуждения к легкомысленным или непривычным действиям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  <a:ea typeface="宋体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46240" indent="-343080">
              <a:lnSpc>
                <a:spcPct val="100000"/>
              </a:lnSpc>
              <a:spcBef>
                <a:spcPts val="675"/>
              </a:spcBef>
              <a:buClr>
                <a:srgbClr val="333399"/>
              </a:buClr>
              <a:buFont typeface="Times New Roman"/>
              <a:buChar char="•"/>
              <a:tabLst>
                <a:tab algn="l" pos="900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Times New Roman"/>
              </a:rPr>
              <a:t>Резкие изменения редакционной политики, дизайна и навигац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46240" indent="-343080">
              <a:lnSpc>
                <a:spcPct val="100000"/>
              </a:lnSpc>
              <a:spcBef>
                <a:spcPts val="675"/>
              </a:spcBef>
              <a:buClr>
                <a:srgbClr val="333399"/>
              </a:buClr>
              <a:buFont typeface="Times New Roman"/>
              <a:buChar char="•"/>
              <a:tabLst>
                <a:tab algn="l" pos="900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Times New Roman"/>
              </a:rPr>
              <a:t>Цензуру, особенно своих собственных пис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46240" indent="-343080">
              <a:lnSpc>
                <a:spcPct val="100000"/>
              </a:lnSpc>
              <a:spcBef>
                <a:spcPts val="675"/>
              </a:spcBef>
              <a:buClr>
                <a:srgbClr val="333399"/>
              </a:buClr>
              <a:buFont typeface="Times New Roman"/>
              <a:buChar char="•"/>
              <a:tabLst>
                <a:tab algn="l" pos="900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Times New Roman"/>
              </a:rPr>
              <a:t>Орфографические ошибки и опис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46240" indent="-343080">
              <a:lnSpc>
                <a:spcPct val="100000"/>
              </a:lnSpc>
              <a:spcBef>
                <a:spcPts val="675"/>
              </a:spcBef>
              <a:buClr>
                <a:srgbClr val="333399"/>
              </a:buClr>
              <a:buFont typeface="Times New Roman"/>
              <a:buChar char="•"/>
              <a:tabLst>
                <a:tab algn="l" pos="900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Times New Roman"/>
              </a:rPr>
              <a:t>Крикливые или неадекватные тексту заголовки  и вводки текс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4624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Times New Roman"/>
              <a:buChar char="•"/>
              <a:tabLst>
                <a:tab algn="l" pos="900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Times New Roman"/>
              </a:rPr>
              <a:t>Отписки в ответ на претензии:  «сам дурак» или «не хочешь, не читай»</a:t>
            </a:r>
            <a:r>
              <a:rPr b="1" lang="ru-RU" sz="16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692360" y="260280"/>
            <a:ext cx="6912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Что любят наши читате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0" y="0"/>
          <a:ext cx="114948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114948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1152360" y="1085760"/>
            <a:ext cx="7710480" cy="46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623880" indent="-444600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0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Обилие интересного, разного и уникального контент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23880" indent="-444600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0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Уважительное отношение к себе как к главной ценности для всех СМ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23880" indent="-444600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0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Высказывать свое мнение и быть услышанными</a:t>
            </a: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23880" indent="-444600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0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Право выбора что, когда и сколько читать</a:t>
            </a: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23880" indent="-444600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0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Честность. Если материал носит рекламный характер, то он должен быть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  <a:ea typeface="宋体"/>
              </a:rPr>
              <a:t>: 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качественно написан, маркирован «На правах рекламы» и т.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23880" indent="-444600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0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Разумное сочетание материалов разной специфики и степени человеческого восприят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23880" indent="-444600">
              <a:lnSpc>
                <a:spcPct val="100000"/>
              </a:lnSpc>
              <a:spcBef>
                <a:spcPts val="1125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0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Наличие четкой редакционной позиции с одной стороны и объективности в освещении фактов с друго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692360" y="260280"/>
            <a:ext cx="6912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Потому что эффектив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0" y="0"/>
          <a:ext cx="114948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114948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"/>
          <p:cNvSpPr/>
          <p:nvPr/>
        </p:nvSpPr>
        <p:spPr>
          <a:xfrm>
            <a:off x="735120" y="714240"/>
            <a:ext cx="8219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623880" indent="-444600">
              <a:spcBef>
                <a:spcPts val="1125"/>
              </a:spcBef>
              <a:tabLst>
                <a:tab algn="l" pos="0"/>
                <a:tab algn="l" pos="90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333399"/>
                </a:solidFill>
                <a:latin typeface="Times New Roman"/>
              </a:rPr>
              <a:t>«Сложность» аудитории - это обратная сторона медали так называемого социально-демографического портрета нашего читателя, который страшно привлекателен для производителей товаров и услуг, особенно бизнес и премиум сегмент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2098800" y="2325600"/>
          <a:ext cx="4608360" cy="38815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098800" y="2325600"/>
                    <a:ext cx="4608360" cy="388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" name=""/>
          <p:cNvSpPr/>
          <p:nvPr/>
        </p:nvSpPr>
        <p:spPr>
          <a:xfrm>
            <a:off x="722160" y="1941480"/>
            <a:ext cx="8199720" cy="108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ВЕДУЩИЕ РОССИЙСКИЕ ИНТЕРНЕТ-РЕСУРС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по числу пользователей за месяц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r">
              <a:lnSpc>
                <a:spcPct val="85000"/>
              </a:lnSpc>
              <a:spcBef>
                <a:spcPts val="224"/>
              </a:spcBef>
              <a:tabLst>
                <a:tab algn="l" pos="0"/>
                <a:tab algn="l" pos="2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%</a:t>
            </a: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 от всего городского населения Росси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r">
              <a:lnSpc>
                <a:spcPct val="85000"/>
              </a:lnSpc>
              <a:spcBef>
                <a:spcPts val="224"/>
              </a:spcBef>
              <a:tabLst>
                <a:tab algn="l" pos="0"/>
                <a:tab algn="l" pos="2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Россия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 от 16 лет и старш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r">
              <a:lnSpc>
                <a:spcPct val="85000"/>
              </a:lnSpc>
              <a:spcBef>
                <a:spcPts val="201"/>
              </a:spcBef>
              <a:tabLst>
                <a:tab algn="l" pos="0"/>
                <a:tab algn="l" pos="2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Период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первое полугодие 2005 года</a:t>
            </a: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349880" y="6191280"/>
            <a:ext cx="45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Источник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: TNS Galluo Media, Marketing Index, </a:t>
            </a: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Индустрия Рекламы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130400" y="2533680"/>
            <a:ext cx="8013600" cy="9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Times New Roman"/>
              </a:rPr>
              <a:t>Интегрированные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PR-</a:t>
            </a:r>
            <a:r>
              <a:rPr b="1" lang="ru-RU" sz="3600" spc="-1" strike="noStrike" u="sng">
                <a:solidFill>
                  <a:srgbClr val="000000"/>
                </a:solidFill>
                <a:uFillTx/>
                <a:latin typeface="Times New Roman"/>
              </a:rPr>
              <a:t>кампан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0" y="0"/>
          <a:ext cx="114948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114948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1692360" y="260280"/>
            <a:ext cx="6912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Отличительные особенности интегрированных кампаний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0" y="0"/>
          <a:ext cx="114948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114948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1233360" y="687960"/>
            <a:ext cx="7728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  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создание и продвижение уникального и богатого контента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«Неделя Великобритании в Газете.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Ru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», «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RFW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  в Газете.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Ru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1320840" y="1486080"/>
            <a:ext cx="4610160" cy="33415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4"/>
          <a:stretch/>
        </p:blipFill>
        <p:spPr>
          <a:xfrm>
            <a:off x="4394160" y="3238560"/>
            <a:ext cx="4597560" cy="34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692360" y="260280"/>
            <a:ext cx="6912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Отличительные особенности интегрированных кампаний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0" y="0"/>
          <a:ext cx="114948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114948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" name=""/>
          <p:cNvSpPr/>
          <p:nvPr/>
        </p:nvSpPr>
        <p:spPr>
          <a:xfrm>
            <a:off x="1233360" y="687960"/>
            <a:ext cx="6305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  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участие в одной кампании нескольких партнеров «Неделя Великобритании в Газете.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Ru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1282680" y="1447920"/>
            <a:ext cx="4606920" cy="33382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2908440" y="2298600"/>
            <a:ext cx="609588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9T10:56:29Z</dcterms:created>
  <dc:creator>Wolfa</dc:creator>
  <dc:description/>
  <dc:language>en-US</dc:language>
  <cp:lastModifiedBy>Wolfa</cp:lastModifiedBy>
  <dcterms:modified xsi:type="dcterms:W3CDTF">2006-03-14T15:02:34Z</dcterms:modified>
  <cp:revision>85</cp:revision>
  <dc:subject/>
  <dc:title>Слайд 1</dc:title>
</cp:coreProperties>
</file>