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2BA85-5289-4F9E-ACDE-5B7E0B804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64087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92360" y="3913560"/>
            <a:ext cx="64087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9800-AFED-480A-8CEC-B8D966E3D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3127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6280" y="1844640"/>
            <a:ext cx="3127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92360" y="3913560"/>
            <a:ext cx="3127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6280" y="3913560"/>
            <a:ext cx="3127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3C0D1-E0FC-4267-BE77-ED0CCE910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20635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59560" y="1844640"/>
            <a:ext cx="20635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400" y="1844640"/>
            <a:ext cx="20635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92360" y="3913560"/>
            <a:ext cx="20635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59560" y="3913560"/>
            <a:ext cx="20635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400" y="3913560"/>
            <a:ext cx="20635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2E79-0FB9-4537-904C-FE68665D51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92360" y="1844640"/>
            <a:ext cx="640872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CEA7A-4043-4F82-8C4D-C4FB63271F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640872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EB48-28BF-4BAA-8A13-3FFF3D551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312732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6280" y="1844640"/>
            <a:ext cx="312732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C5A81-B3EA-4242-A032-64BFF2624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5D29-1DF5-4686-A21A-A0B9B03E0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95672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044F-8F6F-4E85-8051-B5ACDDCC1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3127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6280" y="1844640"/>
            <a:ext cx="312732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92360" y="3913560"/>
            <a:ext cx="3127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E63D-3E1E-474B-BA9E-C41D721A2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312732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6280" y="1844640"/>
            <a:ext cx="3127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6280" y="3913560"/>
            <a:ext cx="3127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E208A-3771-46AB-BF0B-F2F18F8AE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3127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6280" y="1844640"/>
            <a:ext cx="3127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92360" y="3913560"/>
            <a:ext cx="64087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CB1A-4524-4B43-86FA-F5C068D8C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92360" y="1844640"/>
            <a:ext cx="640872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28600"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43040" indent="-228600"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450280" y="6381360"/>
            <a:ext cx="44280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07C0-DB0B-4C19-BB54-5FC348C0B9D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330800" y="6178680"/>
            <a:ext cx="388800" cy="49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56000" y="1568520"/>
            <a:ext cx="3811320" cy="1860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00360" y="3429000"/>
            <a:ext cx="611964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онный спрос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ланирование рекламной коммуникац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дрей Себра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ндекс, директор по специальным проекта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Интернет-маркетинг», главный редак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ференция «Управление аудиторией и реклама в Интернете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сква, 16 марта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588000" y="2565360"/>
            <a:ext cx="1951200" cy="6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F901-5E51-496B-BFF6-F9C1F68595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9280" y="2781360"/>
            <a:ext cx="820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йчас интернет осваивает около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кламных денег в России, н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екламный рынок растет в стране на 25-30% в год и этот ж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 ожидается до 2009 г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ынок продаж компьютеров растет на 20% в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исло пользователей интернета растет сейчас на 35% в год, 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рогноз на ближайшие годы – 20-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мимо роста числа пользователей, растет часто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использования интернета уже подключившими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чь идет о сегменте отечественного рынка, который УЖЕ достиг рубежа в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00 млн. доллар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ового оборота и быстро растет.  (Помимо 60 млн. медийки в прошлом году было око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лн. контекстной, включая поисковую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243000"/>
            <a:ext cx="7956720" cy="98136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100 российских миллион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95280" y="1268280"/>
          <a:ext cx="7848720" cy="1152720"/>
        </p:xfrm>
        <a:graphic>
          <a:graphicData uri="http://schemas.openxmlformats.org/drawingml/2006/table">
            <a:tbl>
              <a:tblPr/>
              <a:tblGrid>
                <a:gridCol w="1461960"/>
                <a:gridCol w="1562400"/>
                <a:gridCol w="1584000"/>
                <a:gridCol w="1584360"/>
                <a:gridCol w="16560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млн. дол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млн. долл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т 8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млн. долл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т 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лн. долл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т 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долл.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т 7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328680" y="90792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мы рынка медийной онлайновой рекламы в Росс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04000" y="2421000"/>
            <a:ext cx="165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по данным АКАР (бывшей РАР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DCFD-FBAF-467E-A960-34A4272E60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9567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0" tIns="0" bIns="72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и, страховщики, автодилеры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640" y="10666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..прекрасно поняли, что они теряют, не светясь на поис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579132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исковая реклама – новый способ коммуникации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отнюдь не худш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95680" y="2362320"/>
            <a:ext cx="4038840" cy="2869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2362320"/>
            <a:ext cx="4191120" cy="2916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2895480"/>
            <a:ext cx="327672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38880" y="4495680"/>
            <a:ext cx="1295640" cy="83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4800600"/>
            <a:ext cx="106668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3581280"/>
            <a:ext cx="2819520" cy="60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52280" y="1523880"/>
            <a:ext cx="7696440" cy="628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914400" y="4836960"/>
            <a:ext cx="1967040" cy="990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2590920" y="1905120"/>
            <a:ext cx="5790960" cy="1000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4876920" y="4543560"/>
            <a:ext cx="2262240" cy="127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C7E2-DBF6-4842-8A1A-22B1CDC807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ачьи годы интерн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799308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роисходит гораздо быстрее, чем кажетс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25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убедиться, достаточно огляну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25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42324-C719-400F-AF64-C0B386A2E1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было недавно?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371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143000"/>
            <a:ext cx="8305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3429000"/>
            <a:ext cx="4457520" cy="571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0880" y="1219320"/>
            <a:ext cx="792504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много легенд про Первый Баннер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самая распространенн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4 год, 25 октября. Сай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wired.co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5f5f5f"/>
                </a:solidFill>
                <a:latin typeface="Arial"/>
              </a:rPr>
              <a:t>(Сегодня это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Wired News</a:t>
            </a:r>
            <a:r>
              <a:rPr b="0" lang="ru-RU" sz="2400" spc="-1" strike="noStrike">
                <a:solidFill>
                  <a:srgbClr val="5f5f5f"/>
                </a:solidFill>
                <a:latin typeface="Arial"/>
              </a:rPr>
              <a:t> - http://wired.com/)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7242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баннер был частью кроссмедийной кампании: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ном кампаниию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 wi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ен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л на телевиде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06120" y="358128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68х60, а какой инсайт!...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FF715-F6F2-4725-943A-CB5F503D7F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это было д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22320" y="1371600"/>
            <a:ext cx="7297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10 лет только в Штатах на подобное потратили почти 10 миллиардов долларов... Обогнав всю наружку.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баннер – похорони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1143000"/>
            <a:ext cx="8305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4343400" cy="2557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181480" y="3581280"/>
            <a:ext cx="3200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кабрь 2004 года, Сан-Францис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glas Weave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авший первый баннер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It ain't mourning tim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's morning time."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02BA9-A59E-470B-9DA3-458CA03C72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место выв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ая «медийная» рекламная кампания часто порождает информационный спрос. Не отработать возникший благодаря ему поисковый трафик – значит либо упустить деньги, либо подарить их конкурент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диционный «медийный» подход к интернету и планированию онлайновой кампании оправдан и работает, если основа расче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личество и цена контактов, интернет просто добавляется в медиамиамикс в доле, пропорциональной интернетизированности ЦА, расчеты базируются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же интернет глубже интегрирован в бизнес-процессы, известна реальная цена посетителя сайта и присутствует информационный спрос, то прежде всего бюджет интернет-рекламы надо строить от поисковой реклам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P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A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оптим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амика информационного спроса не только открывает возможность увеличить приток посетителей с поисковиков, но и является самоценным показателем эффективности маркетинговых мероприя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5818-C6B1-4783-A0D5-7938DA0252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828720" y="5157720"/>
            <a:ext cx="237636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71720" y="2865600"/>
            <a:ext cx="2708280" cy="1179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70920" y="2290680"/>
            <a:ext cx="381240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дрей Себр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9991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СП-1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. Вавилова, 40, Москва, Росс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фон: +7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5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4-3555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с: +7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5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4-3565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. почта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brant@yandex-team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0171A-19F6-4266-AC9B-DC2FC588DA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5589720"/>
            <a:ext cx="813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зультат поиска: страниц —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 096 29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сайтов — не мене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 0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"птичий грипп"» в новостях 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98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продук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5N1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пехи пока скромне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243000"/>
            <a:ext cx="7956720" cy="98136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ый с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946200" y="52293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ordstat.yandex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92280"/>
            <a:ext cx="784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года нам продают новый бренд – «птичий грипп». Успех пиарщиков можно отследить по запросам пользователей интернета, мониторингу новостей и количеству сайтов и страниц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6389640" cy="38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FF3BC-BE85-46B2-9302-D8952D9834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243000"/>
            <a:ext cx="7956720" cy="98136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 и решения: бренд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92280"/>
            <a:ext cx="820908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енд и его позициониров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цо бренда, аудио и видео ассоциации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эмоциональ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вяз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диционно: ТВ, принт, наружка, радио (?), промо-акции и прочи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нлайн как продолжение тради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промо-сайт, промо-ролики (флэш), широкоформатные баннеры, ведущие на промо-сайт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ять же с упоминанием сайта), упоминание сайта в офлайновой кампании. Контакты, вполне аналогичные офлайновым, иногда – более интенсивные. Здесь интернет – равноправный и слабо отличимый от старых новый компонент медиамикса.  И сайт может оказаться вообще не нуже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нлайн менее традицион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наведенный офлайном информационный спрос (прежде всего, от самых лакомых представителей аудитории: журналисты, блоггеры, лидеры мнений и проч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adopters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ует контекстных и поисковых ответ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аботка косвенного интереса и посикового спроса: активный перехват всех интересующихся (в т.ч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ероят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нтересующихс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8220-55BD-45D0-A4DF-D1AD61C1FF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7956720" cy="98136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ы кроссмедийных камп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523880"/>
            <a:ext cx="500364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ет охват за счет контактов с молодежью и офисными трудоголиками, редко смотрящими телевизор, но много времени проводящими в интернет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ается эмоциональное восприятие бренда у тех, кто видит бренд не только на бумаге и в ящике: интернет до сих пор ассоциируется с высокими технологиям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ует синергия, из-за которой вспоминаемость бренда выше, если его видели на «разных экранах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65000"/>
            <a:ext cx="83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 от добавления интернета в Европе подробно исследовали еще в 2003 году, и тогда же согласились, чт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15620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4500720" y="4076640"/>
          <a:ext cx="3960720" cy="195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4076640"/>
                    <a:ext cx="39607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4709880" y="6237360"/>
            <a:ext cx="328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69696"/>
                </a:solidFill>
                <a:latin typeface="Arial"/>
              </a:rPr>
              <a:t>http://www.eiaa.net/research/cross-media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24720" y="4437000"/>
            <a:ext cx="5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+1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60000" y="4437000"/>
            <a:ext cx="5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+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96720" y="4437000"/>
            <a:ext cx="5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+2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960C9-440D-4B95-A80B-822BEFB413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243000"/>
            <a:ext cx="7956720" cy="98136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 и решения: прода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620640"/>
            <a:ext cx="849780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авление реального потребительского спрос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ь традиционный маркетинг: акции, цены, бонусы – создание осно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циональ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тивации... Здесь особенно ценны становятс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лова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диционно: принт, наружк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лайн как продолжение традиции: акции в интернет-магазинах, трасляция ценовых предложений в различные аггрегаторы и систем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shoppi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нформационные баннеры.  Контакты, снова вполне аналогичные офлайновым, но почти всегда более насыщенные информационно. Несравнимая оперативнос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лайн менее традиционный: обслуживание сформированного информационного спроса непосредственно со стороны потенциальных покупателей. Четкие ответы с маркетинговой заманкой.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Здесь очень важен сам сайт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A7AE4-1A81-47D6-965F-60E95DBB18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490680"/>
            <a:ext cx="7956720" cy="98136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 отработки инфо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143000" y="5486400"/>
          <a:ext cx="6173640" cy="76212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</a:tblGrid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88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88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88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88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88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88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609480" y="4572000"/>
            <a:ext cx="78472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8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леты Хворостовский, концерт Хворостовский, Красная площадь Хворостовск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0760" y="3886200"/>
            <a:ext cx="58222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церт Дмитрия Хворостовск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8 мая. Красная площадь. Заказ доставка биле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14800" y="473040"/>
            <a:ext cx="3886200" cy="3359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838080"/>
            <a:ext cx="3505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ый спрос может быть создан, например, традиционной рекламо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нно поэтому поисковая реклама – столь полезный компонент медиамик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02DB-1F10-4569-AADC-6A9F654352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ение инфо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7128000" cy="6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тайт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ordstat.yandex.r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авнивайте с данными 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adstat.rambler.ru/wrd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5410440" cy="3838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520" y="2286000"/>
            <a:ext cx="11430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5960" y="1447920"/>
            <a:ext cx="23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ная статистика слов +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ссоци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5320" y="2438280"/>
            <a:ext cx="180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гиональный сре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360" y="320040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намика по месяца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5181840" cy="3608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371600" y="2514600"/>
            <a:ext cx="4419720" cy="423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F50DA-264D-4688-8F48-4A047E143C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243000"/>
            <a:ext cx="7956720" cy="98136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диамикс и не т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304920"/>
            <a:ext cx="828216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ция медийного типа позволяет включать интернет в привычное планирование, основанное на контактах, их цене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риятно то, что помимо контактов с сообщением будет намного больше глубоких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сегда выше, чем процент позвонивших по горячему номеру, указанному на щите или запомнивши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телеэкрана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Баннеры, таргетированные по аудиторным характеристикам и, частично, контенту. Оплата в основном по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PM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ибо важен контакт и его цена. Поисковая оптимизация сайта по нескольким критичным для бренда запросам.)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ция, сфокусированная сугубо по сиюминутному интересу, планируется исходя из расчета цены не рекламного контакта, но посетителя. Сайт должен быть включен в бизнес-модель, и допустимая максимальная цена его посетителя известна. Сайт должен бы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тимизиров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 поиск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рекламу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реимущественно поисковая и селективная контекстная реклама, поисковая оптимизац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4A735-6D9E-4DE0-B24B-8A23EEDB03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981000"/>
          </a:xfrm>
          <a:prstGeom prst="rect">
            <a:avLst/>
          </a:prstGeom>
          <a:noFill/>
          <a:ln w="0">
            <a:noFill/>
          </a:ln>
        </p:spPr>
        <p:txBody>
          <a:bodyPr lIns="900000" rIns="0" tIns="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что платят рекламодател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американском интерне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871960" cy="4137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rot="24600">
            <a:off x="5028840" y="45720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(Источники: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IAB</a:t>
            </a: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DoubleClick, 200</a:t>
            </a: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94172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иная с 2004 года, самым вкусным куском пирога рекламных денег стала поисковая реклама. И это в США, где интернет быстрее и распространеннее, чем у нас. В 2005 ситуация сохранилась (объем – 12,5 млрд. долл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3BBC9-A6F9-4C39-B2F8-9601D9093E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8:48:57Z</dcterms:created>
  <dc:creator>AVA</dc:creator>
  <dc:description/>
  <dc:language>en-US</dc:language>
  <cp:lastModifiedBy>asebrant</cp:lastModifiedBy>
  <dcterms:modified xsi:type="dcterms:W3CDTF">2006-03-12T20:04:30Z</dcterms:modified>
  <cp:revision>392</cp:revision>
  <dc:subject/>
  <dc:title>Возможности контекстной рекламы</dc:title>
</cp:coreProperties>
</file>