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6A6-D01C-4E13-BBB5-B5BB3ADB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42F-F4D3-4484-B048-ACD782D8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96B-0079-4CC3-AACF-0BB5276C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8C6-77CD-47F2-9CFE-5CA99342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36B-2664-48DF-8BEA-1A7C9AA7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0E9-F363-4EEE-A653-7B9A27D3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077-1E95-432B-AB1C-2767A14A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27D-8B0B-416D-A69C-25B697F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DD2-D89E-4A8C-BF39-BF999E67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52E-F203-4D3A-BAD7-A5C5123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DC4-83A8-4390-BEA2-44D15243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F5E-3ADC-4062-AE95-2D88550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5374-63DD-4742-B974-3494BE3D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6840" y="965160"/>
            <a:ext cx="8410320" cy="493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Arial"/>
              </a:rPr>
              <a:t>Мне 2</a:t>
            </a: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 рейтинге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p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09480" y="1600200"/>
          <a:ext cx="8077320" cy="461016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ктивных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йт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6 4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всю истори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73 9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сайтов в категор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и сект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сайтов в категор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сайтов в категор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727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й досту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3840" y="1600200"/>
            <a:ext cx="81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658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й досту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тем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9800" y="1600200"/>
            <a:ext cx="81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658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фера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424160"/>
            <a:ext cx="87631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5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уточная аудитория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828800"/>
            <a:ext cx="0" cy="38088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30592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7200" y="198108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илл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5120" y="5878440"/>
            <a:ext cx="48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сточник данных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Rambler’s Top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9960" y="62485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* включая иностран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удитория Ру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аудитория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удитор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у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оссий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удитор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у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6840" y="9619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которые проекты растут ещё быстр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4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одолжат расти очень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36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реализуют возможности не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4106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8:03:10Z</dcterms:created>
  <dc:creator>delitsin</dc:creator>
  <dc:description/>
  <dc:language>en-US</dc:language>
  <cp:lastModifiedBy>Borin</cp:lastModifiedBy>
  <dcterms:modified xsi:type="dcterms:W3CDTF">2006-03-16T05:39:59Z</dcterms:modified>
  <cp:revision>116</cp:revision>
  <dc:subject/>
  <dc:title>Rambler/Mail daily audience ratio</dc:title>
</cp:coreProperties>
</file>